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2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notesMasterIdLst>
    <p:notesMasterId r:id="rId36"/>
  </p:notesMasterIdLst>
  <p:sldIdLst>
    <p:sldId id="256" r:id="rId37"/>
    <p:sldId id="257" r:id="rId38"/>
    <p:sldId id="258" r:id="rId39"/>
    <p:sldId id="259" r:id="rId40"/>
    <p:sldId id="260" r:id="rId41"/>
    <p:sldId id="261" r:id="rId42"/>
    <p:sldId id="262" r:id="rId43"/>
    <p:sldId id="263" r:id="rId44"/>
    <p:sldId id="264" r:id="rId45"/>
    <p:sldId id="265" r:id="rId46"/>
    <p:sldId id="266" r:id="rId47"/>
    <p:sldId id="267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notesMaster" Target="notesMasters/notesMaster1.xml"/><Relationship Id="rId37" Type="http://schemas.openxmlformats.org/officeDocument/2006/relationships/slide" Target="slides/slide1.xml"/><Relationship Id="rId38" Type="http://schemas.openxmlformats.org/officeDocument/2006/relationships/slide" Target="slides/slide2.xml"/><Relationship Id="rId39" Type="http://schemas.openxmlformats.org/officeDocument/2006/relationships/slide" Target="slides/slide3.xml"/><Relationship Id="rId40" Type="http://schemas.openxmlformats.org/officeDocument/2006/relationships/slide" Target="slides/slide4.xml"/><Relationship Id="rId41" Type="http://schemas.openxmlformats.org/officeDocument/2006/relationships/slide" Target="slides/slide5.xml"/><Relationship Id="rId42" Type="http://schemas.openxmlformats.org/officeDocument/2006/relationships/slide" Target="slides/slide6.xml"/><Relationship Id="rId43" Type="http://schemas.openxmlformats.org/officeDocument/2006/relationships/slide" Target="slides/slide7.xml"/><Relationship Id="rId44" Type="http://schemas.openxmlformats.org/officeDocument/2006/relationships/slide" Target="slides/slide8.xml"/><Relationship Id="rId45" Type="http://schemas.openxmlformats.org/officeDocument/2006/relationships/slide" Target="slides/slide9.xml"/><Relationship Id="rId46" Type="http://schemas.openxmlformats.org/officeDocument/2006/relationships/slide" Target="slides/slide10.xml"/><Relationship Id="rId47" Type="http://schemas.openxmlformats.org/officeDocument/2006/relationships/slide" Target="slides/slide11.xml"/><Relationship Id="rId48" Type="http://schemas.openxmlformats.org/officeDocument/2006/relationships/slide" Target="slides/slide12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dt" idx="6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 type="ftr" idx="7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6"/>
          <p:cNvSpPr>
            <a:spLocks noGrp="1"/>
          </p:cNvSpPr>
          <p:nvPr>
            <p:ph type="sldNum" idx="7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44D3-44B7-4939-8D64-A29E6E1DF45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0B63-DFA4-492A-9BAD-B0C8E032568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apjainkban egyetlen ország legfőbb ellenőrző szerve sem hagyhatja figyelmen kívül a fenntartható fejlődés követelményeit és értékét. Ezzel összhangban az ÁSZ kiemelt figyelmet fordított a társadalmi, a környezeti és a gazdasági fenntarthatóságr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adósságkonszolidációval az önkormányzatok kivételes esélyt kaptak, azonban ez nem garancia a pénzügyi egyensúly megteremtésére, hosszú távú fenntartására, az adósságállomány újratermelődésének elkerülésére. Az adósságátvállalás csak a problémák tüneteit orvosolta, nem szüntette meg a gazdálkodási nehézségeket kiváltó okokat. Az okok kezelése nélkül az adósságállomány újratermelődik. A pénzügyi egyensúly hosszú távú fenntartása, a likviditás folyamatos biztosítása, és mindezek által a megfelelő színvonalú, gazdaságos, hatékony és eredményes feladatellátás továbbra is megoldandó kérdés az önkormányzati alrendszer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ÁSZ célja hozzájárulni a reform eredményeinek megtartásához, és továbbviteléhez. Ellenőrzéseink tervezésekor - így önkormányzati ellenőrzéseink során is - kiemelt célunk, hogy munkánkkal hozzájáruljunk a gazdasági, környezeti és társadalmi fenntarthatósághoz. Ezért olyan területeket ellenőrzünk, amelyek hatással vannak az államadósság csökkentésére és javítják az ország versenyképességét. Azonban sem az államadósság csökkentése, sem a gazdasági növekedés elősegítése nem veszélyeztetheti a közszolgáltatások színvonalának megtartás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2B6D-CFF6-49B2-9865-D431ECA441B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238F-3718-429D-9C6B-12F02D46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560-6C74-42E9-BF1F-71551243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AE1AAC-BBAE-402B-9CC1-D67FA43DBC9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EE9F0E-995B-4F78-BAC2-8CF4CB5262F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8A613D-6BC2-4ABC-BF77-BA1BFE5CBA8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2DEE07-E3FE-4062-9E3C-3409C4CCCE9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21355F-72A2-4301-8427-6F0BA9F44FC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D7C96D-6F7F-4A96-89F5-6FD96C08740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6C876D-64EC-4FED-AC02-596299423DF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DCFF3A-501B-4C23-BC6A-5FFF71BE954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25F3C1-B6FB-4375-AF42-7C63B314743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F31FB-3548-45AA-9E9E-D4FE3059E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0A0B-6FC8-462D-B66A-23C3EDBA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8C9A7-A719-4133-BA2C-7C26A6FCA08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C68E3-E287-45F4-9A4E-E40FC4DA61A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FFF1C-1B29-478F-A051-0D8D6234C7C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81ECC-F6E5-4C82-B4F0-2776A8AEE5B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4B2E8-0400-482C-8B96-1FE67558725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53C9A-76AE-43BD-B883-0A78CC650C7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EB9E1-0AB1-4805-B6C4-46F3690A1ED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10A40-9A35-40B2-A9CF-51D9906206D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CF69E-8EB5-4B15-8597-C2D9AB5F5C6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E8E67-E716-4051-AB06-49D16F97C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3082-7DBE-4F98-8AA1-2F490752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9DB56-FF0A-42EF-BBB1-92F1AD548BF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1CE520-1F70-4AC7-A113-6C1FA4A1064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2EFFF2-A46B-4EE1-B314-09564B02A12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2EE446-EB35-4CC5-8646-5C87D9EBB92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EF869E-C13D-47D7-B5F5-B88860C1D79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EB6DD1-5B2F-4237-A770-0C84D7992EB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B049DA-7FEE-4C1E-BBF9-C0A17845202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6D7F6A-5705-4B7B-8354-B1FD27C5574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BBA22A-1399-47B4-83D9-15BA80448CC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ABD803-1BD6-4C01-B543-A0FDACF6E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7F5BB-90AB-475C-B930-AA03427C821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29E3F9-09B3-4170-96FB-741B0ED447D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61F247-20AC-4DE0-8729-BDE2BBCC0BF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554E04-89E1-4735-8811-8C33A4C60E0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B8855-2957-4805-9B1A-49A079E0F12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E4498-B68E-4457-9A41-167C54B4FE4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F8168-7C39-4722-AA1F-EC404659B1F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4EC46-7B44-4113-815D-DE32051E7BE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BDAD94-061F-4BBD-9A57-B55B4F97C29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2D998-2572-4E68-A331-B5A8E6C6F8E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737420-E396-442B-AAD1-C6B908F9B2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66D76-8071-4990-A12C-B54C3AAFBE3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D78F20-F373-4393-A11E-49D9C2B1707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B5CBA7-E1A7-4AE2-8DA8-DAE11C042E8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9406D-B7F7-48D4-BA42-D55424D0B7A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DAEA60-2708-4DE3-BE61-8A09366B6A6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9B8267-4C9D-4B88-B7E4-CB93CE91444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E79AD-8B65-4F50-B194-B89817165EC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5FCA5-4DC0-4151-9111-4A673B08A1A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31BD8-FCA1-4BFE-B86A-A732C5C07DB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9D6BC-D4CA-46EE-A881-DD9CCB79F9A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A1363-7408-4D1B-9A55-B43D4C60C0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07AF4-6968-4F85-964F-2FF0B2911CC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7AF97-ED4E-4286-AC83-4E9301360D7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76DA2-435E-41E0-B75D-DD5345B0013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9A05A-3D0A-445E-82DB-E03FCB2C4DC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2FCE9-E5AF-431E-AF07-15B286A3B0E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BC8C2-074E-4888-9F01-7CCD995490F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9C7DF-A86E-4E01-956F-C61B3748318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C9029-E659-4D47-BA00-648E9D72AB9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0A0608-C4C9-4B8C-AA37-5DFE4BEC4B0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10B2E2-3E8D-4E67-894B-20B4FA7CCC0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F3381C-C3FA-42FE-957C-06E7034571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931A2-6614-4FE1-8783-B378FFD996E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9CDC58-195F-4F98-ADEC-B714850F666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87E387-5BF2-44AD-A883-97FE45B53B1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4E9386-4DDF-44D6-BCA3-80AE3949D95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3A0A9C-3C44-4671-A951-5739F1E6107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9EC39A-CFD8-49F9-9979-039866AD37E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8DDC33-87DF-4548-BF84-159D32691E9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50CED4-4996-457B-989E-CC01073FA62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9E03DF-2A62-46AA-B95C-AF98C98AA3F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83DC61-7EEC-4C5E-A98E-6ADC9C6FFB7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D9122C-95C9-4E3A-B3A1-D546D9C49C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82F19-9728-4BE8-AAAD-EC3AE76DD37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C53422-2C7B-477F-A785-6F187755F93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63D59F-041C-4117-9E94-A6F30A26424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3205A1-E61B-4025-B165-0B1FB1477DE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18983C-D2FB-44BB-A5F8-A33B6A2CED9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C61F52-EE7F-4ED9-9265-EBC8060C8FF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D341A5-5594-4813-A2D5-5FFC7F4A9E7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52BAB3-1842-4D7A-B29E-9E98588D1BF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E7CF9A-355D-4342-8F6D-5448421EB2E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4B6877-2F08-48EA-9D4A-F2AAC829B7E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818FB5-DC23-4A9A-943A-938626B5C3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DB72E-DF49-45E9-9A33-5CE94E59A0D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A4593B-81B6-443D-A9DF-56E17C7E17D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23D44-2F7D-4AAC-85A8-7637BFF1807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04B83-C637-4E0E-B47D-B43DEA92C2F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122AF-F439-4004-ADF2-42327AA216B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BFFE1-AFEF-424C-B38B-5B8DDB6F20A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77E7D-C5F4-4618-82BD-15586B8A8FC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267E8-7817-44F1-AB29-108FCDE0201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042DD-DC77-4A55-9979-A8C018335BE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C7A2E-303A-47D0-B694-8239606EC4E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6E3E2-C724-4BFA-A48C-13EC2D24BA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D0AA9-2BA7-4350-99EA-6B97D62ECA7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4EDFD-F751-4143-B1E4-DF0179824C7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0C270-7E52-430C-B2F5-6D6D51245DD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F19BC-5CD8-404F-8B63-6FC149FAB1A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0015D9-3937-47FB-B147-510E786C8AE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655DAC-3699-4B94-850E-9C2E4E10261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0D1657-56C9-4A28-98D5-CE64D503D21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E204EA-61A7-43DE-A977-3B63A23D422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F9E1C5-3AB0-493A-BD65-3DA6F5B61AF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09814D-1571-430E-9C4F-FBC09EC5DA9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21F317-9672-4912-9412-9E006528CB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F385-009F-4EFA-8742-2EF93B16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96D71-F5BA-48FE-A2BB-94307BB3965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71B0C4-8E79-459E-A4D6-E3713E42F90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365473-CE28-4C06-A3C8-719604A91F6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1C057B-46AF-445A-AA65-CFC5B6E2012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1D005E-8193-4069-9313-852CD1766FD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9FA028-F0C4-4EAE-81B2-64B771B0F28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A4A676-C7DD-4E51-87A1-201A9873AAA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5221D4-861D-452B-8C4E-9A6415F1ECF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303B2E3-3556-4817-821E-8C682F41CE8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5564EF-7115-4023-943D-43E0F92FAC2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517A902-5522-4ACA-BC32-0AD1314637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FB253-9D27-4739-9C24-3F0AAEFC825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6417DA-DD63-4892-88A5-B9280C5AF53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D83492-E11E-4F7D-9714-8C1A3DE5E38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46F9F95-051B-4572-8A2F-1EE5AF5A874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6DFB71-58B5-4E51-8E89-3FFA2199606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CA6E83-FF7F-43DE-80CA-D314E9DF1E4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F9D539-9FC1-4E06-BFEA-1949A31A74A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5689C6-A45E-46E3-ADC2-2C6083E4852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1A495-CA9B-404D-8AA7-3B9E3E36499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72770-46E9-4AC2-9996-BA4A783DCC3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201944-E5A7-4101-B982-B6207D4D43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5E146-7FD8-4090-96D2-E107A690546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DE5439-83B8-4514-B248-6ABD1A8F3AD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462910-9BE8-4C1C-ABA0-0956ADC443C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70A9BF-027A-4306-B213-9DE4CF6316C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F9D1C-B279-4185-ACF6-CE3C77C6810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4AF0B-B006-4F1C-A2C3-16797F19E64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B598D-1DBE-4491-AE94-3D9D6F8DC5C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11392-CC83-4F64-A999-2A759D1EC79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AD348-404B-4DA2-B812-469F9A06BE5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B85112-B506-4FD0-94B6-B2AB1772480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C1935-FA26-4D8D-A7EF-6FE15893113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67C7B-DD19-4104-A0AF-C2DB9901742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5AF14-64F0-45A5-9FB9-BEBA58DFF05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5AEBE-210D-4B4A-AE5E-20E8F92652A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998C9D-3605-4BC8-B773-59D8E4C9A8E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4FB08B-1B8D-44D0-B4F5-146FC9703D8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84735B-1E1C-4CD4-BC31-381DB20A1B5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70DFF-3F20-4B8B-B36C-35E9C9206BF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C591D5-9829-4D19-9D76-DBDC4B6E7D6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041008-9507-4FEA-BC78-A33D71EE81A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42EA4-0129-494C-89F7-95A69B420C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AC4761-AC28-429B-8BFB-0035F06A18C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64D283-BDC8-4A0B-9DC5-C7A2438E50B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1506FB-C26A-421D-B98F-EE768208A98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6084D-7EE6-47D2-96E4-6E36B83B55F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FF621E-7D05-4233-9E34-F7EA0C7ED37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CB5CD3-EDC7-4354-B992-42270ABFBCD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3A500B-29D0-4992-A9AE-50A2BEECCBB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8601A50-B0D3-4D47-9B69-4684A801A33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2D86C76-ECC2-4984-A054-9B8E7FA656D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7D6532-BAA1-4F06-B223-84C6CC31FB4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C21322-C17E-4585-B732-B54A21CCA5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3E57AF-6C21-45E2-B73C-02509892EE4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71EAB6-B2EA-4D3B-B13F-553CDD8A0DB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76B4B2-9784-4890-B7DA-43186EE2DE0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8B79D1-1388-4078-A9F7-6CE03262FEA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E2D3FA-D95B-4AF4-999D-F59DCA63642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068608-9E2D-4777-9435-588591F1763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07EB62C-34E7-4F47-BD86-1E2B23CBC0B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795BFB1-DADA-461C-89E5-A01EA20638B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3E91629-69B3-4B55-9DCF-1860AA6863F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A16BF41-A1F6-45F0-9294-EEF0B2606E0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9F3151C-4CD2-4604-961C-ADD0C36DB3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0A01B6-76E3-47A2-9886-031772821D6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7A0883-1354-4C63-93E4-CF1D05C2898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EE1E60E-BDA1-45B4-9488-F4800D85DF1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827CB7C-8DFB-45AE-9A49-979F06BABFE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01B280A-8355-4429-9E22-80DCAD8DD41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0F7E99E-4819-4F82-979E-38E78D987A4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8BA768D-BCC0-4A49-8758-FC95470AAEE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4745C51-D6BD-49EA-8BA0-0D06E068754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8CA78-36CA-4542-B681-CEDE0C0A748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D5D83B-90E3-4F8B-AB3D-AFE94475897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5EB3B6-76D6-4203-990C-A3B894E8C4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E91AB6-B2DC-455A-A194-694CEC0ADCF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C7105D-EA8C-47F6-AC7B-6822FF43BC4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9388FF-F4A5-4A71-AA63-30914846166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EF70DE-3ECD-4374-AF1F-08C5943DB45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AEA463-3976-44BF-AAAA-4889B8CEDD3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A48EBA-2AB7-42CE-9480-A0340CA1325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82C39B-1947-483D-AC3E-6E28B569FAD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07EF77-A1BF-44C2-A10E-0F02143FD2E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E7B09A-7E22-4B67-BB17-123B37228B8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AFA631-48E5-445F-85EC-6F055601D71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DE7AB1F-36C5-4562-B731-AD255366F8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B7D4B2-E6D1-4271-AD7B-12D5E8DACFF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88CAAB-7016-4A5C-A7D1-790FB726A53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A2A110D-069C-49BC-99AE-B90BEC340EF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1D96318-D175-4C0D-84D9-61C6792A278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7DC3785-3AD2-46C0-B874-DA6BD8092D0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8CF0FF9-5EA0-473A-AAB2-5A71BD08AD6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50DF231-FEFA-445C-9C49-EE35A2A26F5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ED1E9CE-118D-4D66-99D1-7C2690DCB61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AAE878A-6839-4768-936C-D8DA1C0BE8F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1A53FE2-CFBF-45AE-BAD8-007F8E496DD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3885804-DD04-4E09-86DF-E1C2632834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A99-808F-47D9-B01D-CEBAF527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C61FC9-D4A1-43AF-BA2F-934D5DECC0F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5BCA223-0BBB-47A6-8A7B-5B73F726ACC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AE1C76F-343B-4557-B0F1-6985DC60E85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93B78E6-B644-4AFF-B166-12E5DF4A85D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1C334AE-1C54-4CAC-9258-DB90453A3C1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B414585-E0EE-4E95-91F0-9938ED6BF01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DDBD2A4-7848-4702-AB67-812C5134D0C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BA1FE49-E83D-4743-8FB7-35BEE4F170B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80D7184-6461-413B-8408-0275290A1BC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C97D2E2-9991-41F0-A200-C1FD6A365E1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A23A07-62CC-4B35-8A4C-3EE4490E33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05A176-B792-48A2-ADA1-C1005720935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381773C-670F-46E3-A9C4-064A93DCCB6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825F4E5-9DCC-4CC0-8EAD-FD4124479BA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F904A2F-81B8-41D9-B0F8-88758F8B1F5F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84E33E-E139-45E6-8C2D-956A625FDA5F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A085B7-00E8-4AD5-97B1-78CBC849BA33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27AE23-6CA8-40DE-BDAD-1B644E359E8D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0919A9-E492-4CC8-8509-2B5FD0934078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7BFC7F-244D-4F86-9689-92543F3945A0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4AEB2A-548E-4933-9CE3-CFC2FE7A26FD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E0561A-6BDE-4EC3-85F1-D31C14024E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000769-EE7E-4615-A705-3C88C27BFF95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3A512F-6DAF-4A04-AF03-24ED124BFF76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2B70EF-5D71-450E-8048-FD4CA1FB7D14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06DA2D-984F-4564-B46A-CBA939606668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3C1D76-DE9D-4E0A-B9AB-A6A88D97CEFC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FE1DB6-E928-44B9-B481-8382FBE783F9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0E178F9-1010-48B3-BD69-A9FA1357078E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B61AAAD-C8D2-48A4-9593-54DEE65AB727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73FC784-1845-4B35-9B42-32F5A435EA83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232C831-4CCE-49F2-B95F-00593E2D630B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5FBB9E2-9115-45E8-AD1A-2ED3C2A30A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B1F5F3-4588-4C71-BE23-5310FF5254E6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4921CB1-97CD-40C3-B584-8F0731E2B333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D041256-2559-407E-858B-41E279994B6A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C78F7B4-E7AD-4EB6-8D86-AD441F3B4398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D8CBF37-C50C-4E22-912B-CD4E013E16CA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B91DCC1-5114-48BC-A8E4-A850DB0FE73E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7E78A92-2268-4599-BE6A-2D9D6A7A3A7B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60B1B86-5EAB-4867-8C92-107D79848DBA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AFBA285-FDD9-4316-B380-1DD43F7A908E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C07D5A5-6AAE-493B-967F-D7E930C239EE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1CA727D-EA44-4928-B176-A2DB45693A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661BE5-6AAF-4DAD-A278-C62DE5D32F00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D1D7491-2A1C-482F-903A-7AD5A97BF7FF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73C675E-4E6D-479F-BAA1-3186CF0B790C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BAA23FF-68D1-4961-B674-B5039FE75D47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695A63F-4A3B-4FAD-89EC-9D789B45E256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332F9E8-C94F-4D63-B5B2-63F3ED1FAE45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D03656F-4246-4AC8-8B2F-A27FC95FCCC1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EB70DFF-A2C7-4495-8D1A-353FFF224452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F014244-E057-49B6-98BF-D21434DA621B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36C4E3A-24B4-4379-9BD6-724AEEC37258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7D1ED0-AC02-4006-98F6-EAA7656704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D79EE4-0626-49AB-8B8E-1E7217BCA235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AA1A03-38A9-4CDC-9916-A2C073216178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3A5744-2660-4017-B8A0-08E589945D61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8DD52F-EC4D-48E5-8E32-82BF95B77EF9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32AB52-953E-489F-9A80-9AD05F9B817C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E37DF4-FAAA-472F-B778-BDD880029B96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09FCDB-FC66-4FA8-98F8-B64D9E31080B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C197CB-D2CE-4D2C-BB1B-D35CC0843D76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2B05AC-0176-44B6-AEBB-96856700EB3E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E0676D-5EA4-4641-9855-DA124CDF8F43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30A6F4-92CD-4F09-88F2-00A76514BD1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321A09-2FFC-4ADC-95D9-924D7D483161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EBC47C-2633-4B1A-A2C3-D089900908C3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75B49E6-621B-4C26-918B-B30C068F9642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23F62DA-E12E-4BA9-AC3E-D3448B0DA00D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4ABF620-0070-4D5E-B8E5-F0D78339A8C5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4FC5EAD-1C81-4D97-A3BE-CC37A4CB4A47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F54873C-55DB-4C3C-BBE3-185F3AC7C526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6D53EB8-3AEC-4DEC-91B1-D8C36C6C76F7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DDB4C5C-DAA9-4B24-B575-2AA34F75F98C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F321629-F7DE-4595-B9D0-91D58347DDF6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44B2B0B-CA2D-455E-9534-792997183E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2ECB3F-3882-43FF-B896-DD8C2CB7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CB367D3-268A-499F-807D-1AB67D261422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1492EB0-2670-48FD-8FF2-88BC61F2CBF5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069C10A-2989-4EE8-826C-7AE4288884D3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6DF1AB6-3EE8-43BF-906A-874153D012B8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1BDC80D-C237-430D-AFB7-04FAF5E9D8DD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F38E33F-56AB-4DB8-8C6A-EFDDCBFF9DAE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6DF47B6-C938-4FB3-99CD-7A5CAB3EF72E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7C655E2-87B8-40EF-BB99-830D60BEB870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1557D07-5681-4C4E-8596-772145BCE170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F053A5C-76F5-4D9B-B781-9D8DC47772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FDB8C7-9C94-486A-B98F-2655A6C2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79A27FF-C429-44BD-BC8A-359A5995FCEE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6B53F4A-502B-44AF-828D-CDBDDC9550BC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EB83221-782C-4631-BFDA-57394156D89E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9323107-7D01-4958-A26D-DFB4BCED56B8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8A847BC-7AF3-4D78-8FBC-1DAB604320CC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D4C70D-684B-4A84-9EC6-A17B1059127A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A84891-EAB9-4FD4-9A1F-431380472601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27D300-D0BA-4041-B65A-9CBC0204914C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744290-6F85-4D41-BC90-79A9FD509CD4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4F6E3F-24E0-4008-93C7-564FD0A6B1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1F027F-E599-4EC7-9E3E-DD56DB98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EE0361-B48F-4DA7-B3D6-F1DE95BFA5D0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CC319F-EA40-4DC2-ADCF-05911A0CB9A3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4A4CC2-7820-49E1-83A3-F0157A295EB6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58C32B-EA94-4694-927E-1D36B95E80E9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2144DA-BDD7-4559-99CB-CBCDA8E215E6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4A5258-F87A-4EAF-8A14-FA048B307013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4DD6C2-3735-4131-B1F7-94928066AD43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D97-FB7A-4B6F-BDD4-73C95006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C94ED9-E2CC-4AE4-8808-7355F744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C15AA5-6A35-4E21-83E4-00B4631C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AD4BD9-0F23-4AE1-81DF-037A7360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604305-4BFE-451F-938E-015ECD39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BB5917-2E69-4F93-B14C-333CD0B9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85ACBA-79E6-40C3-92C9-578863DC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E95DC2-023D-4988-9F23-EB096114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C0E2A1-EC3B-4968-AFE8-B50DC805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4CACD3-A9AE-41E5-BDF0-0BD8D32A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4E8E-ED5F-463B-8937-4347FC01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A6BD-31F5-4801-88F4-5E5079D8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E00C-A5F7-4B76-98AF-37F23836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5509A-DD1C-417C-BA71-7ECF3D69860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4C695-0F62-4617-B1CD-CCF0E6146C0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1AEBB-5158-43EA-BB5D-04F3148C17A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79560-186B-4046-96F3-5A5D94260CA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7AE3E-453B-4443-AC26-05FEF31D7DE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6B538-D682-4665-B546-DA85AFD9F18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C2BC7-36BE-4BC8-93EA-167E8BD58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24B8-0263-42ED-87BA-A35CF803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92064-E79D-4E2E-AE62-59A1F4000D2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BE377-1526-4EE2-BBE4-05E18EEF462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25D12-1BFF-49D8-AD8E-DD750A1BD92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33CDB-60DF-4E66-9151-6009661BF3F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CF58A-ED9A-4F59-8403-EFAA6C82505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D81F68-207D-4055-BB4E-5348571D386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D1CD95-C3D0-48EA-8B42-D6E8195B4A9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35146-4242-4D58-B7A5-10291E52F62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38DCF0-27BB-4FA2-A998-78DCB897C32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81A2DE-95E9-4744-872E-01CEF2504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002-10F2-433F-AFBC-09F95048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545557-F99E-44FD-9DE1-EAA65263F22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E7C36-D178-4881-918F-8256387184F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646B5A-98BF-42D6-AE51-5D14674180F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1F3F02-12DA-43D3-B99C-E8CADB0B633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B05B1E-A7A5-4C62-81F8-F8D82A052DD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B682B5-A955-4D8A-A56B-599662183DD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041645-B6B9-4274-8621-5B95037730E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2E6188-FA02-4781-8652-058CF016F71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E7AEE9-89BA-4EC4-AAFB-049987C5683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6B2B85-0CFF-4418-9D62-40114E942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33520" y="640080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921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EF78-353E-478E-B719-D5D7D6C229E6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ftr" idx="20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ldNum" idx="2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E1E6-7448-47EA-99D6-84A891948E5C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ftr" idx="22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ldNum" idx="2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662D-6EF1-4269-8488-157551775DE9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ftr" idx="24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Num" idx="2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D93F-579B-4E39-8582-8D03964B697F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ftr" idx="26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ldNum" idx="27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0ADB-468E-480B-BF36-C983382244C0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ftr" idx="28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ldNum" idx="2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F1AD-5977-4CBF-9648-0C7461ABFD5A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ftr" idx="30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ldNum" idx="3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9B29-2F8B-4C75-A43A-4BE548C580E7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ftr" idx="32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ldNum" idx="3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68D4-26AC-436A-81A1-FA9524EE9320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ftr" idx="34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ldNum" idx="3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C56D-B31D-484E-900F-A0923A9DDDC1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ftr" idx="36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ldNum" idx="37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3A38-0D64-49B6-85E2-B8583899B2CC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ftr" idx="38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ldNum" idx="3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E2C0-4E31-49E2-8CB3-E4DEAE7F599E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4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DD72-7137-429B-A35A-F29F56C22C92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ftr" idx="40"/>
          </p:nvPr>
        </p:nvSpPr>
        <p:spPr>
          <a:xfrm>
            <a:off x="3276720" y="6453000"/>
            <a:ext cx="27432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ftr" idx="41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ldNum" idx="4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20F0-CAD7-45FB-A71D-33A1C66666F5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ftr" idx="43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ldNum" idx="4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BC65-9DF0-4AAF-B54D-9171DC93B147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ftr" idx="45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ldNum" idx="4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9A98-6E8A-408B-B693-936890C741CA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ftr" idx="47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ldNum" idx="4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B47D-6B45-4575-BBD0-9F44BC6EF8F8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ftr" idx="49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ldNum" idx="50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6DB2-0432-4304-A70A-526FE060050A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ftr" idx="51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ldNum" idx="5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CEA8-D9A7-4542-A8C3-FF5A2370B7CE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ftr" idx="53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ldNum" idx="5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06F3-C49E-40CE-A748-739561E0F79A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ftr" idx="55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ldNum" idx="5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0A41-D9D4-46E9-B9EF-16DD7A0C9C18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ftr" idx="57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ldNum" idx="5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E4C4-29D2-4E01-9FC5-70259706B39C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ftr" idx="6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Num" idx="7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916B-6668-4AC2-9620-DB2CEE2F76F5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ftr" idx="59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ldNum" idx="60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9603-3E03-4598-A1FD-F6AF2566D5FF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ftr" idx="61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sldNum" idx="6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76A7-CEA0-4A4C-80F4-B7B0C4E5D677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ftr" idx="63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ldNum" idx="6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CFE4-2739-4871-A45B-F68E433ABAC9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ftr" idx="65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ldNum" idx="6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4E2F-EBC7-403C-84D9-BF9C689140C3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ftr" idx="67"/>
          </p:nvPr>
        </p:nvSpPr>
        <p:spPr>
          <a:xfrm>
            <a:off x="3276720" y="6453000"/>
            <a:ext cx="27432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dt" idx="68"/>
          </p:nvPr>
        </p:nvSpPr>
        <p:spPr>
          <a:xfrm>
            <a:off x="533520" y="6400800"/>
            <a:ext cx="259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dt" idx="8"/>
          </p:nvPr>
        </p:nvSpPr>
        <p:spPr>
          <a:xfrm>
            <a:off x="533520" y="640080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9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10"/>
          </p:nvPr>
        </p:nvSpPr>
        <p:spPr>
          <a:xfrm>
            <a:off x="7092720" y="921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7621-85D4-4CB3-9AFF-513435E2D6F0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ftr" idx="11"/>
          </p:nvPr>
        </p:nvSpPr>
        <p:spPr>
          <a:xfrm>
            <a:off x="3276720" y="6453000"/>
            <a:ext cx="27432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2"/>
          </p:nvPr>
        </p:nvSpPr>
        <p:spPr>
          <a:xfrm>
            <a:off x="533520" y="6400800"/>
            <a:ext cx="259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ftr" idx="13"/>
          </p:nvPr>
        </p:nvSpPr>
        <p:spPr>
          <a:xfrm>
            <a:off x="3276720" y="6453000"/>
            <a:ext cx="27432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ftr" idx="14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ldNum" idx="1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819B-3B5B-4D60-AC1F-F36F7512396F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ftr" idx="16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Num" idx="17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C648-D9FF-4862-A338-8D6EAEA2AA43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7"/>
          <p:cNvSpPr/>
          <p:nvPr/>
        </p:nvSpPr>
        <p:spPr>
          <a:xfrm>
            <a:off x="1547640" y="2060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ftr" idx="18"/>
          </p:nvPr>
        </p:nvSpPr>
        <p:spPr>
          <a:xfrm>
            <a:off x="3419280" y="6400800"/>
            <a:ext cx="2679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ldNum" idx="1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2E04-C907-488E-9210-1CD512F45C8C}" type="slidenum">
              <a:rPr b="0" lang="hu-HU" sz="1400" spc="-1" strike="noStrike">
                <a:solidFill>
                  <a:srgbClr val="0000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sz.hu/" TargetMode="External"/><Relationship Id="rId2" Type="http://schemas.openxmlformats.org/officeDocument/2006/relationships/hyperlink" Target="http://www.aszhirportal.h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10920" y="3644640"/>
            <a:ext cx="791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22228b"/>
                </a:solidFill>
                <a:latin typeface="Calibri"/>
              </a:rPr>
              <a:t>AZ ÖNKORMÁNYZATOK PÉNZÜGYI ÉS VAGYONGAZDÁLKODÁSA, VALAMINT A TÖBBSÉGI ÖNKORMÁNYZATI TULAJDONBAN LÉVŐ GAZDASÁGI TÁRSASÁGOK ELLENŐRZÉSI TAPASZTALATAI</a:t>
            </a:r>
            <a:br>
              <a:rPr sz="2800"/>
            </a:br>
            <a:br>
              <a:rPr sz="2400"/>
            </a:br>
            <a:r>
              <a:rPr b="1" lang="hu-HU" sz="2400" spc="-1" strike="noStrike">
                <a:solidFill>
                  <a:srgbClr val="800000"/>
                </a:solidFill>
                <a:latin typeface="Calibri"/>
              </a:rPr>
              <a:t>Makkai Mária</a:t>
            </a:r>
            <a:br>
              <a:rPr sz="2400"/>
            </a:br>
            <a:r>
              <a:rPr b="1" lang="hu-HU" sz="2400" spc="-1" strike="noStrike">
                <a:solidFill>
                  <a:srgbClr val="800000"/>
                </a:solidFill>
                <a:latin typeface="Calibri"/>
              </a:rPr>
              <a:t>Állami Számvevőszék</a:t>
            </a:r>
            <a:br>
              <a:rPr sz="2400"/>
            </a:br>
            <a:r>
              <a:rPr b="1" lang="hu-HU" sz="2400" spc="-1" strike="noStrike">
                <a:solidFill>
                  <a:srgbClr val="800000"/>
                </a:solidFill>
                <a:latin typeface="Calibri"/>
              </a:rPr>
              <a:t>felügyeleti vezető</a:t>
            </a:r>
            <a:br>
              <a:rPr sz="2400"/>
            </a:br>
            <a:r>
              <a:rPr b="1" lang="hu-HU" sz="2400" spc="-1" strike="noStrike">
                <a:solidFill>
                  <a:srgbClr val="800000"/>
                </a:solidFill>
                <a:latin typeface="Calibri"/>
              </a:rPr>
              <a:t>2016. november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28560" y="294840"/>
            <a:ext cx="78868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993300"/>
                </a:solidFill>
                <a:latin typeface="Arial"/>
              </a:rPr>
              <a:t>Ellenőrzés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600" spc="-1" strike="noStrike">
                <a:solidFill>
                  <a:srgbClr val="993300"/>
                </a:solidFill>
                <a:latin typeface="Arial"/>
              </a:rPr>
              <a:t>tapasztalatok – a társaságok gazdálkodásáró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2" name="Tartalom helye 6" descr=""/>
          <p:cNvPicPr/>
          <p:nvPr/>
        </p:nvPicPr>
        <p:blipFill>
          <a:blip r:embed="rId1"/>
          <a:stretch/>
        </p:blipFill>
        <p:spPr>
          <a:xfrm>
            <a:off x="622440" y="1341360"/>
            <a:ext cx="7899120" cy="4462560"/>
          </a:xfrm>
          <a:prstGeom prst="rect">
            <a:avLst/>
          </a:prstGeom>
          <a:ln w="0">
            <a:noFill/>
          </a:ln>
        </p:spPr>
      </p:pic>
      <p:sp>
        <p:nvSpPr>
          <p:cNvPr id="1373" name="Dia számának helye 3"/>
          <p:cNvSpPr/>
          <p:nvPr/>
        </p:nvSpPr>
        <p:spPr>
          <a:xfrm>
            <a:off x="7093080" y="921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3C8A-4D32-4238-A46F-D85A969DAB0D}" type="slidenum">
              <a:rPr b="0" lang="hu-HU" sz="14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3300"/>
                </a:solidFill>
                <a:latin typeface="Arial"/>
              </a:rPr>
              <a:t>Az Állami Számvevőszék javasla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Dia számának helye 3"/>
          <p:cNvSpPr/>
          <p:nvPr/>
        </p:nvSpPr>
        <p:spPr>
          <a:xfrm>
            <a:off x="7093080" y="921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560E-3937-4856-9772-AE3E7F8D5857}" type="slidenum">
              <a:rPr b="0" lang="hu-HU" sz="14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Ellipszis 7"/>
          <p:cNvSpPr/>
          <p:nvPr/>
        </p:nvSpPr>
        <p:spPr>
          <a:xfrm>
            <a:off x="179280" y="2206800"/>
            <a:ext cx="2519640" cy="2160360"/>
          </a:xfrm>
          <a:prstGeom prst="ellipse">
            <a:avLst/>
          </a:prstGeom>
          <a:gradFill rotWithShape="0">
            <a:gsLst>
              <a:gs pos="0">
                <a:srgbClr val="749797"/>
              </a:gs>
              <a:gs pos="100000">
                <a:srgbClr val="c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22228b"/>
                </a:solidFill>
                <a:latin typeface="Arial"/>
              </a:rPr>
              <a:t>A cégvezetők munkájának folyamatos értékel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Ellipszis 8"/>
          <p:cNvSpPr/>
          <p:nvPr/>
        </p:nvSpPr>
        <p:spPr>
          <a:xfrm>
            <a:off x="2109960" y="4092480"/>
            <a:ext cx="2519280" cy="2160720"/>
          </a:xfrm>
          <a:prstGeom prst="ellipse">
            <a:avLst/>
          </a:prstGeom>
          <a:gradFill rotWithShape="0">
            <a:gsLst>
              <a:gs pos="0">
                <a:srgbClr val="749797"/>
              </a:gs>
              <a:gs pos="100000">
                <a:srgbClr val="c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22228b"/>
                </a:solidFill>
                <a:latin typeface="Arial"/>
              </a:rPr>
              <a:t>A tulajdonos értékelési képességének erősí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Ellipszis 9"/>
          <p:cNvSpPr/>
          <p:nvPr/>
        </p:nvSpPr>
        <p:spPr>
          <a:xfrm>
            <a:off x="5018040" y="4079880"/>
            <a:ext cx="2521080" cy="2158920"/>
          </a:xfrm>
          <a:prstGeom prst="ellipse">
            <a:avLst/>
          </a:prstGeom>
          <a:gradFill rotWithShape="0">
            <a:gsLst>
              <a:gs pos="0">
                <a:srgbClr val="749797"/>
              </a:gs>
              <a:gs pos="100000">
                <a:srgbClr val="c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22228b"/>
                </a:solidFill>
                <a:latin typeface="Arial"/>
              </a:rPr>
              <a:t>Vezetők javadalmazási rendszerének kialakí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Ellipszis 10"/>
          <p:cNvSpPr/>
          <p:nvPr/>
        </p:nvSpPr>
        <p:spPr>
          <a:xfrm>
            <a:off x="6534000" y="2205000"/>
            <a:ext cx="2519640" cy="2160720"/>
          </a:xfrm>
          <a:prstGeom prst="ellipse">
            <a:avLst/>
          </a:prstGeom>
          <a:gradFill rotWithShape="0">
            <a:gsLst>
              <a:gs pos="0">
                <a:srgbClr val="749797"/>
              </a:gs>
              <a:gs pos="100000">
                <a:srgbClr val="c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22228b"/>
                </a:solidFill>
                <a:latin typeface="Arial"/>
              </a:rPr>
              <a:t>Etika és integri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0" name="Lekerekített téglalap 11"/>
          <p:cNvGrpSpPr/>
          <p:nvPr/>
        </p:nvGrpSpPr>
        <p:grpSpPr>
          <a:xfrm>
            <a:off x="2316240" y="1432080"/>
            <a:ext cx="4620960" cy="853920"/>
            <a:chOff x="2316240" y="1432080"/>
            <a:chExt cx="4620960" cy="853920"/>
          </a:xfrm>
        </p:grpSpPr>
        <p:pic>
          <p:nvPicPr>
            <p:cNvPr id="1381" name="Lekerekített téglalap 11" descr=""/>
            <p:cNvPicPr/>
            <p:nvPr/>
          </p:nvPicPr>
          <p:blipFill>
            <a:blip r:embed="rId1"/>
            <a:stretch/>
          </p:blipFill>
          <p:spPr>
            <a:xfrm>
              <a:off x="2316240" y="1432080"/>
              <a:ext cx="46209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2" name=""/>
            <p:cNvSpPr/>
            <p:nvPr/>
          </p:nvSpPr>
          <p:spPr>
            <a:xfrm>
              <a:off x="2365200" y="1481040"/>
              <a:ext cx="452772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191966"/>
                  </a:solidFill>
                  <a:latin typeface="Arial"/>
                </a:rPr>
                <a:t>Rendszerszintű megoldáso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3" name="Lefelé nyíl 12"/>
          <p:cNvSpPr/>
          <p:nvPr/>
        </p:nvSpPr>
        <p:spPr>
          <a:xfrm rot="2917800">
            <a:off x="3066480" y="2387160"/>
            <a:ext cx="486000" cy="711360"/>
          </a:xfrm>
          <a:prstGeom prst="downArrow">
            <a:avLst>
              <a:gd name="adj1" fmla="val 50000"/>
              <a:gd name="adj2" fmla="val 49908"/>
            </a:avLst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efelé nyíl 13"/>
          <p:cNvSpPr/>
          <p:nvPr/>
        </p:nvSpPr>
        <p:spPr>
          <a:xfrm rot="1424400">
            <a:off x="3731760" y="2898360"/>
            <a:ext cx="484200" cy="73044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efelé nyíl 14"/>
          <p:cNvSpPr/>
          <p:nvPr/>
        </p:nvSpPr>
        <p:spPr>
          <a:xfrm rot="20050200">
            <a:off x="4801680" y="2900520"/>
            <a:ext cx="486000" cy="709560"/>
          </a:xfrm>
          <a:prstGeom prst="downArrow">
            <a:avLst>
              <a:gd name="adj1" fmla="val 50000"/>
              <a:gd name="adj2" fmla="val 49829"/>
            </a:avLst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efelé nyíl 15"/>
          <p:cNvSpPr/>
          <p:nvPr/>
        </p:nvSpPr>
        <p:spPr>
          <a:xfrm rot="18485400">
            <a:off x="5568120" y="2388240"/>
            <a:ext cx="485640" cy="744480"/>
          </a:xfrm>
          <a:prstGeom prst="downArrow">
            <a:avLst>
              <a:gd name="adj1" fmla="val 50000"/>
              <a:gd name="adj2" fmla="val 49864"/>
            </a:avLst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Dia számának helye 5"/>
          <p:cNvSpPr/>
          <p:nvPr/>
        </p:nvSpPr>
        <p:spPr>
          <a:xfrm>
            <a:off x="7093080" y="921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0501-D2C7-41F7-9794-98D69CAD58CF}" type="slidenum">
              <a:rPr b="0" lang="hu-HU" sz="14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Rectangle 3"/>
          <p:cNvSpPr/>
          <p:nvPr/>
        </p:nvSpPr>
        <p:spPr>
          <a:xfrm>
            <a:off x="1316160" y="2492280"/>
            <a:ext cx="67611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600" spc="-1" strike="noStrike">
                <a:solidFill>
                  <a:srgbClr val="000064"/>
                </a:solidFill>
                <a:latin typeface="Times New Roman"/>
                <a:ea typeface="Times New Roman"/>
              </a:rPr>
              <a:t>Köszönöm megtisztelő figyelmüket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 Box 4"/>
          <p:cNvSpPr/>
          <p:nvPr/>
        </p:nvSpPr>
        <p:spPr>
          <a:xfrm>
            <a:off x="5222160" y="4570560"/>
            <a:ext cx="292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asz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aszhirportal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Dia számának helye 5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9B1F-2339-49AA-B9F3-87F2998C3B3B}" type="slidenum">
              <a:rPr b="0" lang="hu-HU" sz="14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382680" y="177480"/>
            <a:ext cx="860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800000"/>
                </a:solidFill>
                <a:latin typeface="Arial"/>
              </a:rPr>
              <a:t>ÁSZ ellenőrzések a fenntarthatóság jegyéb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280800" y="1125360"/>
            <a:ext cx="8699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365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65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65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65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65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65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3" name="Kép 2" descr=""/>
          <p:cNvPicPr/>
          <p:nvPr/>
        </p:nvPicPr>
        <p:blipFill>
          <a:blip r:embed="rId1"/>
          <a:stretch/>
        </p:blipFill>
        <p:spPr>
          <a:xfrm>
            <a:off x="1116000" y="1212840"/>
            <a:ext cx="669600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247680" y="365040"/>
            <a:ext cx="85010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800000"/>
                </a:solidFill>
                <a:latin typeface="Arial"/>
              </a:rPr>
              <a:t>Az önkormányzati ellenőrzések fő terület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Dia számának helye 3"/>
          <p:cNvSpPr/>
          <p:nvPr/>
        </p:nvSpPr>
        <p:spPr>
          <a:xfrm>
            <a:off x="7093080" y="6408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4189-F5A3-4DB1-BF8E-7AC92794E0B8}" type="slidenum">
              <a:rPr b="0" lang="hu-HU" sz="14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6" name="Tartalom helye 11" descr=""/>
          <p:cNvPicPr/>
          <p:nvPr/>
        </p:nvPicPr>
        <p:blipFill>
          <a:blip r:embed="rId1"/>
          <a:stretch/>
        </p:blipFill>
        <p:spPr>
          <a:xfrm>
            <a:off x="792000" y="1108080"/>
            <a:ext cx="75963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800000"/>
                </a:solidFill>
                <a:latin typeface="Arial"/>
              </a:rPr>
              <a:t>Pénzügyi, működési kockázat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2060"/>
                </a:solidFill>
                <a:latin typeface="Arial"/>
              </a:rPr>
              <a:t>Alacsony működési jövedelemtermelő képességből ered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2060"/>
                </a:solidFill>
                <a:latin typeface="Arial"/>
              </a:rPr>
              <a:t>Önként vállalt feladatok miatt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2060"/>
                </a:solidFill>
                <a:latin typeface="Arial"/>
              </a:rPr>
              <a:t>Létesítmények jövőbeni fenntartásához kapcsolód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2060"/>
                </a:solidFill>
                <a:latin typeface="Arial"/>
              </a:rPr>
              <a:t>Szállítói tartozások miatt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2060"/>
                </a:solidFill>
                <a:latin typeface="Arial"/>
              </a:rPr>
              <a:t>Gazdasági társaság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2060"/>
                </a:solidFill>
                <a:latin typeface="Arial"/>
              </a:rPr>
              <a:t>Rejtett adóssá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Dia számának hely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22BB-DE85-49D3-9251-9D9D50D66243}" type="slidenum">
              <a:rPr b="0" lang="hu-HU" sz="14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Dia számának helye 5"/>
          <p:cNvSpPr/>
          <p:nvPr/>
        </p:nvSpPr>
        <p:spPr>
          <a:xfrm>
            <a:off x="7093080" y="921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60A6-E009-47DD-B136-0D50BC9CF667}" type="slidenum">
              <a:rPr b="0" lang="hu-HU" sz="14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993300"/>
                </a:solidFill>
                <a:latin typeface="Arial"/>
              </a:rPr>
              <a:t>A vagyongazdálkodás gyakorlati kérdés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324000" y="134784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22228b"/>
                </a:solidFill>
                <a:latin typeface="Arial"/>
              </a:rPr>
              <a:t>Szabályozotts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3" name="Kép 1" descr=""/>
          <p:cNvPicPr/>
          <p:nvPr/>
        </p:nvPicPr>
        <p:blipFill>
          <a:blip r:embed="rId1"/>
          <a:srcRect l="1833" t="0" r="2819" b="3767"/>
          <a:stretch/>
        </p:blipFill>
        <p:spPr>
          <a:xfrm>
            <a:off x="2050920" y="1968480"/>
            <a:ext cx="48974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Dia számának helye 5"/>
          <p:cNvSpPr/>
          <p:nvPr/>
        </p:nvSpPr>
        <p:spPr>
          <a:xfrm>
            <a:off x="7093080" y="921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6AD4-9445-474A-B9E5-33E2D07B0EFC}" type="slidenum">
              <a:rPr b="0" lang="hu-HU" sz="14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-393840" y="3066840"/>
            <a:ext cx="50040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3300"/>
                </a:solidFill>
                <a:latin typeface="Arial"/>
              </a:rPr>
              <a:t>Nyilvántartások, leltár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25200" y="3066840"/>
            <a:ext cx="5267160" cy="41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lé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hangj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itelessé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átámasztottsá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leltá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AutoShape 5"/>
          <p:cNvSpPr/>
          <p:nvPr/>
        </p:nvSpPr>
        <p:spPr>
          <a:xfrm>
            <a:off x="6373800" y="3067200"/>
            <a:ext cx="2448000" cy="865080"/>
          </a:xfrm>
          <a:prstGeom prst="hexagon">
            <a:avLst>
              <a:gd name="adj" fmla="val 7074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 Box 6"/>
          <p:cNvSpPr/>
          <p:nvPr/>
        </p:nvSpPr>
        <p:spPr>
          <a:xfrm>
            <a:off x="6805440" y="3067200"/>
            <a:ext cx="15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mviteli anali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AutoShape 7"/>
          <p:cNvSpPr/>
          <p:nvPr/>
        </p:nvSpPr>
        <p:spPr>
          <a:xfrm>
            <a:off x="5581800" y="2058840"/>
            <a:ext cx="2447640" cy="865440"/>
          </a:xfrm>
          <a:prstGeom prst="hexagon">
            <a:avLst>
              <a:gd name="adj" fmla="val 7070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Text Box 8"/>
          <p:cNvSpPr/>
          <p:nvPr/>
        </p:nvSpPr>
        <p:spPr>
          <a:xfrm>
            <a:off x="6013440" y="213192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őkönyvi nyilvántar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AutoShape 9"/>
          <p:cNvSpPr/>
          <p:nvPr/>
        </p:nvSpPr>
        <p:spPr>
          <a:xfrm>
            <a:off x="5869080" y="4075200"/>
            <a:ext cx="2448000" cy="865080"/>
          </a:xfrm>
          <a:prstGeom prst="hexagon">
            <a:avLst>
              <a:gd name="adj" fmla="val 7074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 Box 10"/>
          <p:cNvSpPr/>
          <p:nvPr/>
        </p:nvSpPr>
        <p:spPr>
          <a:xfrm>
            <a:off x="6300720" y="4075200"/>
            <a:ext cx="15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gatlan- katasz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AutoShape 11"/>
          <p:cNvSpPr/>
          <p:nvPr/>
        </p:nvSpPr>
        <p:spPr>
          <a:xfrm>
            <a:off x="5726160" y="5229360"/>
            <a:ext cx="2448000" cy="865080"/>
          </a:xfrm>
          <a:prstGeom prst="hexagon">
            <a:avLst>
              <a:gd name="adj" fmla="val 7074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Text Box 12"/>
          <p:cNvSpPr/>
          <p:nvPr/>
        </p:nvSpPr>
        <p:spPr>
          <a:xfrm>
            <a:off x="6157800" y="522936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öldhivatali nyilvántar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AutoShape 13"/>
          <p:cNvSpPr/>
          <p:nvPr/>
        </p:nvSpPr>
        <p:spPr>
          <a:xfrm>
            <a:off x="4141800" y="3211560"/>
            <a:ext cx="1800360" cy="7920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14"/>
          <p:cNvSpPr/>
          <p:nvPr/>
        </p:nvSpPr>
        <p:spPr>
          <a:xfrm>
            <a:off x="4213080" y="328464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agyon- kimuta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Oval 15"/>
          <p:cNvSpPr/>
          <p:nvPr/>
        </p:nvSpPr>
        <p:spPr>
          <a:xfrm>
            <a:off x="3924360" y="1052640"/>
            <a:ext cx="5076720" cy="568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16"/>
          <p:cNvSpPr/>
          <p:nvPr/>
        </p:nvSpPr>
        <p:spPr>
          <a:xfrm>
            <a:off x="4932360" y="148428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hu-HU" sz="2000" spc="-1" strike="noStrike" u="sng">
                <a:solidFill>
                  <a:srgbClr val="22228b"/>
                </a:solidFill>
                <a:uFillTx/>
                <a:latin typeface="Arial"/>
              </a:rPr>
              <a:t>Összh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18"/>
          <p:cNvSpPr/>
          <p:nvPr/>
        </p:nvSpPr>
        <p:spPr>
          <a:xfrm>
            <a:off x="684360" y="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993300"/>
                </a:solidFill>
                <a:latin typeface="Arial"/>
              </a:rPr>
              <a:t>A vagyongazdálkodás jellemző hiányossá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0" name="Kép 1" descr=""/>
          <p:cNvPicPr/>
          <p:nvPr/>
        </p:nvPicPr>
        <p:blipFill>
          <a:blip r:embed="rId1"/>
          <a:stretch/>
        </p:blipFill>
        <p:spPr>
          <a:xfrm>
            <a:off x="900000" y="1176480"/>
            <a:ext cx="151128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ia számának helye 5"/>
          <p:cNvSpPr/>
          <p:nvPr/>
        </p:nvSpPr>
        <p:spPr>
          <a:xfrm>
            <a:off x="7093080" y="921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EE9C-E19B-4A91-962E-4DFCDBAB7E61}" type="slidenum">
              <a:rPr b="0" lang="hu-HU" sz="14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/>
          </p:nvPr>
        </p:nvSpPr>
        <p:spPr>
          <a:xfrm>
            <a:off x="7509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rtékcsökkenés elszámo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szközpótlás alaku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eruházások folyamatának szabályszerűsé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nntartási kötelezett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azdálkodási jogkörök gyakorlásának szabályszerűsége (ellenjegyzés, bevétel jogosságának ellenőrzése, teljesítés igazolás, stb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ljárások szabályszerűsége (közbeszerzések lebonyolítása, pályáztatás, bérbeadás, eladás stb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4"/>
          <p:cNvSpPr/>
          <p:nvPr/>
        </p:nvSpPr>
        <p:spPr>
          <a:xfrm>
            <a:off x="611280" y="921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993300"/>
                </a:solidFill>
                <a:latin typeface="Arial"/>
              </a:rPr>
              <a:t>A vagyongazdálkodás kiemelt kérdés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800000"/>
                </a:solidFill>
                <a:latin typeface="Arial"/>
              </a:rPr>
              <a:t>A gazdasági társaságok ellenőrzésének jelentősé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Dia számának helye 3"/>
          <p:cNvSpPr/>
          <p:nvPr/>
        </p:nvSpPr>
        <p:spPr>
          <a:xfrm>
            <a:off x="7093080" y="921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26F7-07F1-4F2D-9E5D-5F6A8956A826}" type="slidenum">
              <a:rPr b="0" lang="hu-HU" sz="14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6" name="Diagram 19" descr=""/>
          <p:cNvPicPr/>
          <p:nvPr/>
        </p:nvPicPr>
        <p:blipFill>
          <a:blip r:embed="rId1"/>
          <a:stretch/>
        </p:blipFill>
        <p:spPr>
          <a:xfrm>
            <a:off x="324000" y="1384200"/>
            <a:ext cx="83502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3300"/>
                </a:solidFill>
                <a:latin typeface="Arial"/>
              </a:rPr>
              <a:t>Ellenőrzési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993300"/>
                </a:solidFill>
                <a:latin typeface="Arial"/>
              </a:rPr>
              <a:t>tapasztalatok – tulajdonosi joggyakorl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Dia számának helye 3"/>
          <p:cNvSpPr/>
          <p:nvPr/>
        </p:nvSpPr>
        <p:spPr>
          <a:xfrm>
            <a:off x="7093080" y="921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74C8-FFDF-4EC0-AA96-D30AB098B1BE}" type="slidenum">
              <a:rPr b="0" lang="hu-HU" sz="14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Szövegdoboz 5"/>
          <p:cNvSpPr/>
          <p:nvPr/>
        </p:nvSpPr>
        <p:spPr>
          <a:xfrm>
            <a:off x="826920" y="1790640"/>
            <a:ext cx="775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2946a"/>
                </a:solidFill>
                <a:latin typeface="Arial"/>
              </a:rPr>
              <a:t>A tulajdonos önkormányzatok többségében szabályszerűen látták el tulajdonosi kötelezettségei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628200" y="3933720"/>
            <a:ext cx="77598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00000"/>
                </a:solidFill>
                <a:latin typeface="Arial"/>
              </a:rPr>
              <a:t>Kötelező feladataik ellátásán túl jellemzően nem éltek a tulajdonosi joggyakorlás eszközei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3:18:03Z</dcterms:created>
  <dc:creator>Makkai Mária</dc:creator>
  <dc:description/>
  <dc:language>en-US</dc:language>
  <cp:lastModifiedBy>Kiss Marietta</cp:lastModifiedBy>
  <dcterms:modified xsi:type="dcterms:W3CDTF">2016-11-07T14:04:28Z</dcterms:modified>
  <cp:revision>138</cp:revision>
  <dc:subject/>
  <dc:title>1. dia</dc:title>
</cp:coreProperties>
</file>