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.wmf" ContentType="image/x-wmf"/>
  <Override PartName="/ppt/media/image3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png" ContentType="image/png"/>
  <Override PartName="/ppt/media/image15.png" ContentType="image/png"/>
  <Override PartName="/ppt/media/image24.png" ContentType="image/png"/>
  <Override PartName="/ppt/media/image1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907588" cy="467995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-531720" y="750960"/>
            <a:ext cx="795168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5151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902040" y="95151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22A86-4779-4257-8111-216819640C34}" type="slidenum">
              <a:rPr b="0" lang="hu-H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529C4-3F1C-4A24-84B7-D33ED691E052}" type="slidenum">
              <a:rPr b="0" lang="hu-H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-531720" y="750960"/>
            <a:ext cx="7951680" cy="37576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-531720" y="750960"/>
            <a:ext cx="7951680" cy="37576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Dia számának helye 3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7C0F8-1C08-4A24-91F7-BB46C858150A}" type="slidenum">
              <a:rPr b="0" lang="hu-H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-531720" y="750960"/>
            <a:ext cx="7951680" cy="37576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Dia számának helye 3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F27D7-16D2-41DD-B9C6-63DF5F8DE23B}" type="slidenum">
              <a:rPr b="0" lang="hu-H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-531720" y="750960"/>
            <a:ext cx="7951680" cy="37576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Dia számának helye 3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73959-B880-40EA-897E-C8F35E3BA058}" type="slidenum">
              <a:rPr b="0" lang="hu-H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-531720" y="750960"/>
            <a:ext cx="7951680" cy="37576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Dia számának helye 3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64A83-09AA-4FE5-A191-4227A664C7D8}" type="slidenum">
              <a:rPr b="0" lang="hu-H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-531720" y="750960"/>
            <a:ext cx="7951680" cy="37576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Dia számának helye 3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1FE4D-FD81-4DA1-B3DE-3FFD4B4CA1A6}" type="slidenum">
              <a:rPr b="0" lang="hu-H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-531720" y="750960"/>
            <a:ext cx="7951680" cy="37576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Dia számának helye 3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FC0F3-0A8F-4CFF-8275-8EBF2D027635}" type="slidenum">
              <a:rPr b="0" lang="hu-H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-531720" y="750960"/>
            <a:ext cx="7951680" cy="37576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 számának helye 3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95A51-DAE9-4709-9C7E-FD9905AB5FC7}" type="slidenum">
              <a:rPr b="0" lang="hu-H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-531720" y="750960"/>
            <a:ext cx="7951680" cy="37576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Dia számának helye 3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DCFF9-4693-4897-BAB5-F772526C7A0E}" type="slidenum">
              <a:rPr b="0" lang="hu-H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-531720" y="750960"/>
            <a:ext cx="7951680" cy="37576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Dia számának helye 3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86C40-BCBE-42AC-892B-13A639EB6D8D}" type="slidenum">
              <a:rPr b="0" lang="hu-H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-531720" y="750960"/>
            <a:ext cx="7951680" cy="37576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Dia számának helye 3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ECAA5-5EC0-46BD-B9B5-94DB829976D1}" type="slidenum">
              <a:rPr b="0" lang="hu-H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-531720" y="750960"/>
            <a:ext cx="7951680" cy="37576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Dia számának helye 3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52A6C-E4A3-4FE6-80D0-68F0C4E9304C}" type="slidenum">
              <a:rPr b="0" lang="hu-H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-531720" y="750960"/>
            <a:ext cx="7951680" cy="37576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Dia számának helye 3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7B7D3-CD15-4E78-81BE-0B34F6BF6525}" type="slidenum">
              <a:rPr b="0" lang="hu-H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-531720" y="750960"/>
            <a:ext cx="7951680" cy="37576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Dia számának helye 3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B6219-1349-478C-9D0F-9BBF0353E283}" type="slidenum">
              <a:rPr b="0" lang="hu-H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-531720" y="750960"/>
            <a:ext cx="7951680" cy="37576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Dia számának helye 3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9F03C-96EE-46D2-8D4D-53D82E7E6C44}" type="slidenum">
              <a:rPr b="0" lang="hu-H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-531720" y="750960"/>
            <a:ext cx="7951680" cy="37576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Dia számának helye 3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B5FDA-6A8A-4A32-A25E-211836569737}" type="slidenum">
              <a:rPr b="0" lang="hu-H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-531720" y="750960"/>
            <a:ext cx="7951680" cy="37576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Dia számának helye 3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DF232-021A-4007-BE3D-B311EA4830A4}" type="slidenum">
              <a:rPr b="0" lang="hu-H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-531720" y="750960"/>
            <a:ext cx="7951680" cy="37576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Dia számának helye 3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35D9E-F04D-43B0-B62F-559FEE0C4128}" type="slidenum">
              <a:rPr b="0" lang="hu-H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-531720" y="750960"/>
            <a:ext cx="7951680" cy="37576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Dia számának helye 3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C85B6-1138-45C7-8F10-44BC7730BD48}" type="slidenum">
              <a:rPr b="0" lang="hu-H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-531720" y="750960"/>
            <a:ext cx="7951680" cy="375768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Dia számának helye 3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374AD-1C56-42FD-93AF-B8D00172FA44}" type="slidenum">
              <a:rPr b="0" lang="hu-H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B3D75-D42D-4655-815F-E34D61D1120F}" type="slidenum">
              <a:rPr b="0" lang="hu-H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-531720" y="750960"/>
            <a:ext cx="7951680" cy="375768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-531720" y="750960"/>
            <a:ext cx="7951680" cy="37576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Dia számának helye 3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DCE56-B678-4231-BFC1-B293BAA1A363}" type="slidenum">
              <a:rPr b="0" lang="hu-H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-531720" y="750960"/>
            <a:ext cx="7951680" cy="37576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Dia számának helye 3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E9014-61C4-42CC-A72C-42593078FFF3}" type="slidenum">
              <a:rPr b="0" lang="hu-H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-531720" y="750960"/>
            <a:ext cx="7951680" cy="37576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Dia számának helye 3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39D22-37DE-41FD-BE74-1B4CEC7C0C72}" type="slidenum">
              <a:rPr b="0" lang="hu-H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-531720" y="750960"/>
            <a:ext cx="7951680" cy="37576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Dia számának helye 3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475F0-94A6-4B6A-A930-942D1AFD4FB5}" type="slidenum">
              <a:rPr b="0" lang="hu-H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-531720" y="750960"/>
            <a:ext cx="7951680" cy="37576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Dia számának helye 3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C1D9F-E62F-440D-A3B1-3F3C4D8AE040}" type="slidenum">
              <a:rPr b="0" lang="hu-H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-531720" y="750960"/>
            <a:ext cx="7951680" cy="37576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Dia számának helye 3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03B65-34C0-4E2B-B417-B757EC4C4551}" type="slidenum">
              <a:rPr b="0" lang="hu-H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0A58-70D4-4B39-8FAB-A2E2A6B5B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199800"/>
            <a:ext cx="891540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300320"/>
            <a:ext cx="8915400" cy="133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2766960"/>
            <a:ext cx="8915400" cy="133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7F94-5DA7-4B7A-82A4-C55BCB7CE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199800"/>
            <a:ext cx="891540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300320"/>
            <a:ext cx="4350600" cy="133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300320"/>
            <a:ext cx="4350600" cy="133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2766960"/>
            <a:ext cx="4350600" cy="133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2766960"/>
            <a:ext cx="4350600" cy="133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06FA-C17C-41F0-8FA9-3397F998C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199800"/>
            <a:ext cx="891540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300320"/>
            <a:ext cx="2870640" cy="133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300320"/>
            <a:ext cx="2870640" cy="133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300320"/>
            <a:ext cx="2870640" cy="133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2766960"/>
            <a:ext cx="2870640" cy="133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2766960"/>
            <a:ext cx="2870640" cy="133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2766960"/>
            <a:ext cx="2870640" cy="133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0701-D7B6-4EB3-9F32-87235332D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46E8AD-1281-45A4-8364-BC7F1F4CB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199800"/>
            <a:ext cx="891540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95000" y="1300320"/>
            <a:ext cx="891540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76A3A5-123C-4500-B158-199389BDB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000" y="199800"/>
            <a:ext cx="891540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95000" y="1300320"/>
            <a:ext cx="891540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4750AF-802E-499E-8C15-0C580AD48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199800"/>
            <a:ext cx="891540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000" y="1300320"/>
            <a:ext cx="435060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3400" y="1300320"/>
            <a:ext cx="435060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C096E7-6B64-4BD7-8537-0289BE5F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000" y="199800"/>
            <a:ext cx="891540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ABA746-CD3E-4FF1-9992-2578C90F1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95000" y="199800"/>
            <a:ext cx="891540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D975EC-8B8D-4120-AC77-8AFFE78BF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199800"/>
            <a:ext cx="891540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300320"/>
            <a:ext cx="4350600" cy="133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400" y="1300320"/>
            <a:ext cx="435060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5000" y="2766960"/>
            <a:ext cx="4350600" cy="133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0E6B19-74A0-4326-8372-1EA34E86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199800"/>
            <a:ext cx="891540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300320"/>
            <a:ext cx="891540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809B-35B3-4CCE-B8FD-2531AC3D8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199800"/>
            <a:ext cx="891540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300320"/>
            <a:ext cx="435060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300320"/>
            <a:ext cx="4350600" cy="133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63400" y="2766960"/>
            <a:ext cx="4350600" cy="133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F36A2E-5F5E-4D55-8708-7C36C9984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199800"/>
            <a:ext cx="891540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300320"/>
            <a:ext cx="4350600" cy="133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3400" y="1300320"/>
            <a:ext cx="4350600" cy="133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000" y="2766960"/>
            <a:ext cx="8915400" cy="133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004920-A4D7-42E9-B4DD-5BDFD4F3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199800"/>
            <a:ext cx="891540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300320"/>
            <a:ext cx="8915400" cy="133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000" y="2766960"/>
            <a:ext cx="8915400" cy="133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1A9CB3-EE98-446D-9962-8F8E5B719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199800"/>
            <a:ext cx="891540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300320"/>
            <a:ext cx="4350600" cy="133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3400" y="1300320"/>
            <a:ext cx="4350600" cy="133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5000" y="2766960"/>
            <a:ext cx="4350600" cy="133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63400" y="2766960"/>
            <a:ext cx="4350600" cy="133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0872CF-6ADA-4760-A5A6-091530DBE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000" y="199800"/>
            <a:ext cx="891540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000" y="1300320"/>
            <a:ext cx="2870640" cy="133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09640" y="1300320"/>
            <a:ext cx="2870640" cy="133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300320"/>
            <a:ext cx="2870640" cy="133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5000" y="2766960"/>
            <a:ext cx="2870640" cy="133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09640" y="2766960"/>
            <a:ext cx="2870640" cy="133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2766960"/>
            <a:ext cx="2870640" cy="133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15CDD8-2D2D-42A5-9396-BE832B2D4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199800"/>
            <a:ext cx="891540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300320"/>
            <a:ext cx="891540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8151-A93D-4E16-9DFF-A88B783C6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199800"/>
            <a:ext cx="891540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300320"/>
            <a:ext cx="435060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300320"/>
            <a:ext cx="435060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B6BD-7D6F-4C3D-B636-F886FFBC6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199800"/>
            <a:ext cx="891540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2378-5A42-41EE-8150-8229D69A2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199800"/>
            <a:ext cx="891540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E889-C7FE-4AAC-95E0-4F4CBD40C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199800"/>
            <a:ext cx="891540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300320"/>
            <a:ext cx="4350600" cy="133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300320"/>
            <a:ext cx="435060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2766960"/>
            <a:ext cx="4350600" cy="133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0B09-AD88-4500-8C2C-E5F4A138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199800"/>
            <a:ext cx="891540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300320"/>
            <a:ext cx="435060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300320"/>
            <a:ext cx="4350600" cy="133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2766960"/>
            <a:ext cx="4350600" cy="133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E495-C972-45E7-B047-6639DD3F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199800"/>
            <a:ext cx="891540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300320"/>
            <a:ext cx="4350600" cy="133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300320"/>
            <a:ext cx="4350600" cy="133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2766960"/>
            <a:ext cx="8915400" cy="133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3FFC-CA4E-46BB-BBF3-13628B61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199800"/>
            <a:ext cx="891540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300320"/>
            <a:ext cx="891540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97520" indent="-1911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765720" indent="-1530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072080" indent="-1530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378440" indent="-15300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378440" indent="-1530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378440" indent="-1530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4262400"/>
            <a:ext cx="231120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4262400"/>
            <a:ext cx="313668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4262400"/>
            <a:ext cx="231156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4FCD2-5312-4843-9402-40D6D56193A0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309600" y="1913040"/>
            <a:ext cx="1440" cy="2071440"/>
          </a:xfrm>
          <a:custGeom>
            <a:avLst/>
            <a:gdLst/>
            <a:ahLst/>
            <a:rect l="l" t="t" r="r" b="b"/>
            <a:pathLst>
              <a:path w="1587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000" y="199800"/>
            <a:ext cx="891540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95000" y="1300320"/>
            <a:ext cx="891540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97520" indent="-1911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765720" indent="-1530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072080" indent="-1530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378440" indent="-15300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378440" indent="-1530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378440" indent="-1530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384360" y="4262400"/>
            <a:ext cx="313668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7098840" y="4262400"/>
            <a:ext cx="231156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8D8E4-1568-41C6-85CF-1DCF78D3E7A2}" type="slidenum">
              <a:rPr b="0" lang="hu-H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95360" y="4262400"/>
            <a:ext cx="231120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1.png"/><Relationship Id="rId5" Type="http://schemas.openxmlformats.org/officeDocument/2006/relationships/package" Target="../embeddings/oleObject2.xlsx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17.wmf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Kép 78" descr=""/>
          <p:cNvPicPr/>
          <p:nvPr/>
        </p:nvPicPr>
        <p:blipFill>
          <a:blip r:embed="rId1">
            <a:lum contrast="-18000"/>
          </a:blip>
          <a:srcRect l="0" t="-11174" r="79016" b="63504"/>
          <a:stretch/>
        </p:blipFill>
        <p:spPr>
          <a:xfrm>
            <a:off x="128520" y="-36360"/>
            <a:ext cx="1368360" cy="539640"/>
          </a:xfrm>
          <a:prstGeom prst="rect">
            <a:avLst/>
          </a:prstGeom>
          <a:ln w="0">
            <a:noFill/>
          </a:ln>
        </p:spPr>
      </p:pic>
      <p:sp>
        <p:nvSpPr>
          <p:cNvPr id="91" name="Line 7"/>
          <p:cNvSpPr/>
          <p:nvPr/>
        </p:nvSpPr>
        <p:spPr>
          <a:xfrm>
            <a:off x="415800" y="468360"/>
            <a:ext cx="9001080" cy="0"/>
          </a:xfrm>
          <a:prstGeom prst="line">
            <a:avLst/>
          </a:prstGeom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Line 8"/>
          <p:cNvSpPr/>
          <p:nvPr/>
        </p:nvSpPr>
        <p:spPr>
          <a:xfrm>
            <a:off x="415800" y="4140360"/>
            <a:ext cx="6337440" cy="0"/>
          </a:xfrm>
          <a:prstGeom prst="line">
            <a:avLst/>
          </a:prstGeom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415800" y="1403280"/>
            <a:ext cx="9361440" cy="29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XVII. Önkormányzati Költségvetési- és adókonferencia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(2016. november 9.)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Önkormányzati tapasztalatok és eljárások az adóigazgatási ügyi munka területé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Korsós László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Irodavezető az MJVSZ Adókollégiumának Elnöke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94" name="Picture 9" descr="te_t_sarok"/>
          <p:cNvPicPr/>
          <p:nvPr/>
        </p:nvPicPr>
        <p:blipFill>
          <a:blip r:embed="rId2"/>
          <a:stretch/>
        </p:blipFill>
        <p:spPr>
          <a:xfrm>
            <a:off x="8288280" y="3060720"/>
            <a:ext cx="161784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Kép 78" descr=""/>
          <p:cNvPicPr/>
          <p:nvPr/>
        </p:nvPicPr>
        <p:blipFill>
          <a:blip r:embed="rId1">
            <a:lum contrast="-18000"/>
          </a:blip>
          <a:srcRect l="0" t="-11174" r="59396" b="63504"/>
          <a:stretch/>
        </p:blipFill>
        <p:spPr>
          <a:xfrm>
            <a:off x="7257960" y="0"/>
            <a:ext cx="2648160" cy="539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te_t_sarok"/>
          <p:cNvPicPr/>
          <p:nvPr/>
        </p:nvPicPr>
        <p:blipFill>
          <a:blip r:embed="rId2"/>
          <a:stretch/>
        </p:blipFill>
        <p:spPr>
          <a:xfrm>
            <a:off x="8215200" y="2987640"/>
            <a:ext cx="1690920" cy="169236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4"/>
          <p:cNvSpPr/>
          <p:nvPr/>
        </p:nvSpPr>
        <p:spPr>
          <a:xfrm>
            <a:off x="4182120" y="90360"/>
            <a:ext cx="154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Idegenforgalmi ad</a:t>
            </a:r>
            <a:r>
              <a:rPr b="0" lang="hu-HU" sz="1200" spc="-1" strike="noStrike">
                <a:solidFill>
                  <a:srgbClr val="ffffff"/>
                </a:solidFill>
                <a:latin typeface="Century Gothic"/>
              </a:rPr>
              <a:t>ó</a:t>
            </a: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203400" y="120960"/>
            <a:ext cx="3253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Idegenforgalmi ad</a:t>
            </a:r>
            <a:r>
              <a:rPr b="0" lang="hu-HU" sz="1200" spc="-1" strike="noStrike">
                <a:solidFill>
                  <a:srgbClr val="ffffff"/>
                </a:solidFill>
                <a:latin typeface="Century Gothic"/>
              </a:rPr>
              <a:t>ó</a:t>
            </a: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ffffff"/>
                </a:solidFill>
                <a:latin typeface="Century Gothic"/>
              </a:rPr>
              <a:t>Idegenforgalmi adó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72520" y="539280"/>
            <a:ext cx="891540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4d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Az Ogy előtt lévő 12741.sz. tv javaslat „az egyes adótörvények és más kapcsolódó törvények módosításáról” alapvetően átszabja az ellenőrzési eljárások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28560" indent="-228600" algn="just">
              <a:lnSpc>
                <a:spcPct val="90000"/>
              </a:lnSpc>
              <a:buClr>
                <a:srgbClr val="0000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181.§ A hatályos szabályok alapján az adóhatóság számára szinte kizárólagos lehetőségként az ellenőrzés megindítása áll rendelkezésre arra az esetre, ha az adózónál kockázatot, jogszabálysértést tár fel, vagy valószínűsít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28560" indent="-228600" algn="just">
              <a:lnSpc>
                <a:spcPct val="90000"/>
              </a:lnSpc>
              <a:buClr>
                <a:srgbClr val="0000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Az adókötelezettségekkel összefüggő eltérések, anomáliák, jogszabálysértések egy része azonban sokkal </a:t>
            </a:r>
            <a:r>
              <a:rPr b="0" lang="hu-HU" sz="20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hatékonyabban kezelhető az adózó részvételével, nem indokol formális ellenőrzést</a:t>
            </a:r>
            <a:r>
              <a:rPr b="0" lang="hu-HU" sz="20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28560" indent="-228600" algn="just">
              <a:lnSpc>
                <a:spcPct val="90000"/>
              </a:lnSpc>
              <a:buClr>
                <a:srgbClr val="0000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Ennek lehetőségét teremti meg a módosítás azzal, hogy </a:t>
            </a:r>
            <a:r>
              <a:rPr b="0" lang="hu-HU" sz="20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újraszabályozza az adóhatósági kockázatelemzést és annak kimenetelét</a:t>
            </a:r>
            <a:r>
              <a:rPr b="0" lang="hu-HU" sz="20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. ASP?? </a:t>
            </a:r>
            <a:r>
              <a:rPr b="0" lang="hu-HU" sz="2000" spc="-1" strike="noStrike">
                <a:solidFill>
                  <a:srgbClr val="00004d"/>
                </a:solidFill>
                <a:latin typeface="Wingdings"/>
                <a:ea typeface="Wingdings"/>
              </a:rPr>
              <a:t>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28560" indent="-228600" algn="just">
              <a:lnSpc>
                <a:spcPct val="90000"/>
              </a:lnSpc>
              <a:buClr>
                <a:srgbClr val="0000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Ennek keretében új elemként jelenik meg </a:t>
            </a:r>
            <a:r>
              <a:rPr b="0" lang="hu-HU" sz="20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a támogató eljárás</a:t>
            </a:r>
            <a:r>
              <a:rPr b="0" lang="hu-HU" sz="20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4d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Kép 78" descr=""/>
          <p:cNvPicPr/>
          <p:nvPr/>
        </p:nvPicPr>
        <p:blipFill>
          <a:blip r:embed="rId1">
            <a:lum contrast="-18000"/>
          </a:blip>
          <a:srcRect l="0" t="-11174" r="59396" b="63504"/>
          <a:stretch/>
        </p:blipFill>
        <p:spPr>
          <a:xfrm>
            <a:off x="7257960" y="0"/>
            <a:ext cx="2648160" cy="539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te_t_sarok"/>
          <p:cNvPicPr/>
          <p:nvPr/>
        </p:nvPicPr>
        <p:blipFill>
          <a:blip r:embed="rId2"/>
          <a:stretch/>
        </p:blipFill>
        <p:spPr>
          <a:xfrm>
            <a:off x="8215200" y="2987640"/>
            <a:ext cx="1690920" cy="16923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4"/>
          <p:cNvSpPr/>
          <p:nvPr/>
        </p:nvSpPr>
        <p:spPr>
          <a:xfrm>
            <a:off x="4182120" y="90360"/>
            <a:ext cx="154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Idegenforgalmi ad</a:t>
            </a:r>
            <a:r>
              <a:rPr b="0" lang="hu-HU" sz="1200" spc="-1" strike="noStrike">
                <a:solidFill>
                  <a:srgbClr val="ffffff"/>
                </a:solidFill>
                <a:latin typeface="Century Gothic"/>
              </a:rPr>
              <a:t>ó</a:t>
            </a: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203400" y="120960"/>
            <a:ext cx="3253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Idegenforgalmi ad</a:t>
            </a:r>
            <a:r>
              <a:rPr b="0" lang="hu-HU" sz="1200" spc="-1" strike="noStrike">
                <a:solidFill>
                  <a:srgbClr val="ffffff"/>
                </a:solidFill>
                <a:latin typeface="Century Gothic"/>
              </a:rPr>
              <a:t>ó</a:t>
            </a: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ffffff"/>
                </a:solidFill>
                <a:latin typeface="Century Gothic"/>
              </a:rPr>
              <a:t>Idegenforgalmi adó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72520" y="539280"/>
            <a:ext cx="891540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4d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Az Ogy előtt lévő 12741.sz. tv javaslat „az egyes adótörvények és más kapcsolódó törvények módosításáról” alapvetően átszabja az ellenőrzési eljárások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39996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399960" algn="just">
              <a:lnSpc>
                <a:spcPct val="90000"/>
              </a:lnSpc>
              <a:buClr>
                <a:srgbClr val="0000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A támogató eljárás keretében sor kerülhet </a:t>
            </a:r>
            <a:r>
              <a:rPr b="0" lang="hu-HU" sz="20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önellenőrzésre felhívásra</a:t>
            </a:r>
            <a:r>
              <a:rPr b="0" lang="hu-HU" sz="20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, melynek esetköre bővül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399960" algn="just">
              <a:lnSpc>
                <a:spcPct val="90000"/>
              </a:lnSpc>
              <a:buClr>
                <a:srgbClr val="0000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Nem csak a vállalkozási tevékenységet nem folytató magánszemélyekre fog kiterjedni, hanem </a:t>
            </a:r>
            <a:r>
              <a:rPr b="0" lang="hu-HU" sz="20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bármely adózó esetében élhet ezzel az adóhatóság</a:t>
            </a:r>
            <a:r>
              <a:rPr b="0" lang="hu-HU" sz="20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399960" algn="just">
              <a:lnSpc>
                <a:spcPct val="90000"/>
              </a:lnSpc>
              <a:buClr>
                <a:srgbClr val="0000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Emellett a támogató eljárás keretében </a:t>
            </a:r>
            <a:r>
              <a:rPr b="0" lang="hu-HU" sz="20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az adóhatóság kapcsolatfelvételt kezdeményezhet az adózóval</a:t>
            </a:r>
            <a:r>
              <a:rPr b="0" lang="hu-HU" sz="20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, melynek célja a feltárt hibák, hiányosságok orvoslása </a:t>
            </a:r>
            <a:r>
              <a:rPr b="0" lang="hu-HU" sz="2000" spc="-1" strike="noStrike" u="sng">
                <a:solidFill>
                  <a:srgbClr val="00004d"/>
                </a:solidFill>
                <a:uFillTx/>
                <a:latin typeface="Times New Roman"/>
                <a:ea typeface="Times New Roman"/>
              </a:rPr>
              <a:t>az adóhatóság szakmai támogatásáv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4d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Kép 78" descr=""/>
          <p:cNvPicPr/>
          <p:nvPr/>
        </p:nvPicPr>
        <p:blipFill>
          <a:blip r:embed="rId1">
            <a:lum contrast="-18000"/>
          </a:blip>
          <a:srcRect l="0" t="-11174" r="59396" b="63504"/>
          <a:stretch/>
        </p:blipFill>
        <p:spPr>
          <a:xfrm>
            <a:off x="7257960" y="0"/>
            <a:ext cx="2648160" cy="539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te_t_sarok"/>
          <p:cNvPicPr/>
          <p:nvPr/>
        </p:nvPicPr>
        <p:blipFill>
          <a:blip r:embed="rId2"/>
          <a:stretch/>
        </p:blipFill>
        <p:spPr>
          <a:xfrm>
            <a:off x="8215200" y="2987640"/>
            <a:ext cx="1690920" cy="16923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4"/>
          <p:cNvSpPr/>
          <p:nvPr/>
        </p:nvSpPr>
        <p:spPr>
          <a:xfrm>
            <a:off x="4182120" y="90360"/>
            <a:ext cx="154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Idegenforgalmi ad</a:t>
            </a:r>
            <a:r>
              <a:rPr b="0" lang="hu-HU" sz="1200" spc="-1" strike="noStrike">
                <a:solidFill>
                  <a:srgbClr val="ffffff"/>
                </a:solidFill>
                <a:latin typeface="Century Gothic"/>
              </a:rPr>
              <a:t>ó</a:t>
            </a: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203400" y="120960"/>
            <a:ext cx="3253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Idegenforgalmi ad</a:t>
            </a:r>
            <a:r>
              <a:rPr b="0" lang="hu-HU" sz="1200" spc="-1" strike="noStrike">
                <a:solidFill>
                  <a:srgbClr val="ffffff"/>
                </a:solidFill>
                <a:latin typeface="Century Gothic"/>
              </a:rPr>
              <a:t>ó</a:t>
            </a: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ffffff"/>
                </a:solidFill>
                <a:latin typeface="Century Gothic"/>
              </a:rPr>
              <a:t>Idegenforgalmi adó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72520" y="539280"/>
            <a:ext cx="891540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4d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Az Ogy előtt lévő 12741.sz. tv javaslat „az egyes adótörvények és más kapcsolódó törvények módosításáról” alapvetően átszabja az ellenőrzési eljárásokat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28560" indent="-228600" algn="just">
              <a:lnSpc>
                <a:spcPct val="90000"/>
              </a:lnSpc>
              <a:buClr>
                <a:srgbClr val="0000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„</a:t>
            </a:r>
            <a:r>
              <a:rPr b="0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90/A. § (1) Az adóhatóság az adókötelezettségek teljesítésével összefüggő kockázatok azonosítása, valamint az azonosított kockázatok fennállásának kizárása vagy megállapítása érdekében </a:t>
            </a:r>
            <a:r>
              <a:rPr b="0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kockázatelemzést végez</a:t>
            </a:r>
            <a:r>
              <a:rPr b="0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28560" indent="-228600" algn="just">
              <a:lnSpc>
                <a:spcPct val="90000"/>
              </a:lnSpc>
              <a:buClr>
                <a:srgbClr val="0000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(2) A kockázatelemzés során az adóhatóság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28560" indent="-228600" algn="just">
              <a:lnSpc>
                <a:spcPct val="90000"/>
              </a:lnSpc>
              <a:buClr>
                <a:srgbClr val="0000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a) az adózó által </a:t>
            </a:r>
            <a:r>
              <a:rPr b="0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benyújtott bevallások</a:t>
            </a:r>
            <a:r>
              <a:rPr b="0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28560" indent="-228600" algn="just">
              <a:lnSpc>
                <a:spcPct val="90000"/>
              </a:lnSpc>
              <a:buClr>
                <a:srgbClr val="0000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b) az </a:t>
            </a:r>
            <a:r>
              <a:rPr b="0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adatszolgáltatások</a:t>
            </a:r>
            <a:r>
              <a:rPr b="0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28560" indent="-228600" algn="just">
              <a:lnSpc>
                <a:spcPct val="90000"/>
              </a:lnSpc>
              <a:buClr>
                <a:srgbClr val="0000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c) </a:t>
            </a:r>
            <a:r>
              <a:rPr b="0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adóhatósági nyilvántartások</a:t>
            </a:r>
            <a:r>
              <a:rPr b="0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28560" indent="-228600" algn="just">
              <a:lnSpc>
                <a:spcPct val="90000"/>
              </a:lnSpc>
              <a:buClr>
                <a:srgbClr val="0000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d) az adózónál korábban végzett </a:t>
            </a:r>
            <a:r>
              <a:rPr b="0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ellenőrzések és egyéb helyszíni cselekmények során szerzett tapasztalatok</a:t>
            </a:r>
            <a:r>
              <a:rPr b="0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28560" indent="-228600" algn="just">
              <a:lnSpc>
                <a:spcPct val="90000"/>
              </a:lnSpc>
              <a:buClr>
                <a:srgbClr val="0000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e) </a:t>
            </a:r>
            <a:r>
              <a:rPr b="0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más hatóságtól, más adózóktól szerzett adatok</a:t>
            </a:r>
            <a:r>
              <a:rPr b="0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, valamint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28560" indent="-228600" algn="just">
              <a:lnSpc>
                <a:spcPct val="90000"/>
              </a:lnSpc>
              <a:buClr>
                <a:srgbClr val="0000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f) </a:t>
            </a:r>
            <a:r>
              <a:rPr b="0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nyilvánosan elérhető adatok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28560" indent="-228600" algn="just">
              <a:lnSpc>
                <a:spcPct val="90000"/>
              </a:lnSpc>
              <a:buClr>
                <a:srgbClr val="0000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összevetését és kiértékelését</a:t>
            </a:r>
            <a:r>
              <a:rPr b="0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 végzi el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4d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Kép 78" descr=""/>
          <p:cNvPicPr/>
          <p:nvPr/>
        </p:nvPicPr>
        <p:blipFill>
          <a:blip r:embed="rId1">
            <a:lum contrast="-18000"/>
          </a:blip>
          <a:srcRect l="0" t="-11174" r="59396" b="63504"/>
          <a:stretch/>
        </p:blipFill>
        <p:spPr>
          <a:xfrm>
            <a:off x="7257960" y="0"/>
            <a:ext cx="2648160" cy="539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te_t_sarok"/>
          <p:cNvPicPr/>
          <p:nvPr/>
        </p:nvPicPr>
        <p:blipFill>
          <a:blip r:embed="rId2"/>
          <a:stretch/>
        </p:blipFill>
        <p:spPr>
          <a:xfrm>
            <a:off x="8215200" y="2987640"/>
            <a:ext cx="1690920" cy="169236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4"/>
          <p:cNvSpPr/>
          <p:nvPr/>
        </p:nvSpPr>
        <p:spPr>
          <a:xfrm>
            <a:off x="4182120" y="90360"/>
            <a:ext cx="154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Idegenforgalmi ad</a:t>
            </a:r>
            <a:r>
              <a:rPr b="0" lang="hu-HU" sz="1200" spc="-1" strike="noStrike">
                <a:solidFill>
                  <a:srgbClr val="ffffff"/>
                </a:solidFill>
                <a:latin typeface="Century Gothic"/>
              </a:rPr>
              <a:t>ó</a:t>
            </a: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203400" y="120960"/>
            <a:ext cx="3253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Idegenforgalmi ad</a:t>
            </a:r>
            <a:r>
              <a:rPr b="0" lang="hu-HU" sz="1200" spc="-1" strike="noStrike">
                <a:solidFill>
                  <a:srgbClr val="ffffff"/>
                </a:solidFill>
                <a:latin typeface="Century Gothic"/>
              </a:rPr>
              <a:t>ó</a:t>
            </a: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ffffff"/>
                </a:solidFill>
                <a:latin typeface="Century Gothic"/>
              </a:rPr>
              <a:t>Idegenforgalmi adó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72520" y="539280"/>
            <a:ext cx="891540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 algn="just">
              <a:lnSpc>
                <a:spcPct val="90000"/>
              </a:lnSpc>
              <a:spcBef>
                <a:spcPts val="1001"/>
              </a:spcBef>
              <a:buClr>
                <a:srgbClr val="00004d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Az Ogy előtt lévő 12741.sz. tv javaslat „az egyes adótörvények és más kapcsolódó törvények módosításáról” alapvetően átszabja az ellenőrzési eljárásokat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609480" indent="-221400" algn="just">
              <a:lnSpc>
                <a:spcPct val="100000"/>
              </a:lnSpc>
              <a:buClr>
                <a:srgbClr val="0000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4d"/>
                </a:solidFill>
                <a:latin typeface="Calibri"/>
              </a:rPr>
              <a:t>(5) A feltárt kockázat megszüntetése érdekében az adóhatóság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609480" indent="-221400" algn="just">
              <a:lnSpc>
                <a:spcPct val="100000"/>
              </a:lnSpc>
              <a:buClr>
                <a:srgbClr val="0000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4d"/>
                </a:solidFill>
                <a:latin typeface="Calibri"/>
              </a:rPr>
              <a:t>a) </a:t>
            </a:r>
            <a:r>
              <a:rPr b="0" lang="hu-HU" sz="1400" spc="-1" strike="noStrike">
                <a:solidFill>
                  <a:srgbClr val="00004d"/>
                </a:solidFill>
                <a:latin typeface="Calibri"/>
              </a:rPr>
              <a:t>támogató eljárást indít</a:t>
            </a:r>
            <a:r>
              <a:rPr b="0" lang="hu-HU" sz="1400" spc="-1" strike="noStrike">
                <a:solidFill>
                  <a:srgbClr val="00004d"/>
                </a:solidFill>
                <a:latin typeface="Calibri"/>
              </a:rPr>
              <a:t>, vagy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609480" indent="-221400" algn="just">
              <a:lnSpc>
                <a:spcPct val="100000"/>
              </a:lnSpc>
              <a:buClr>
                <a:srgbClr val="0000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4d"/>
                </a:solidFill>
                <a:latin typeface="Calibri"/>
              </a:rPr>
              <a:t>b) az adózót ellenőrzésre kiválasztja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609480" indent="-221400" algn="just">
              <a:lnSpc>
                <a:spcPct val="100000"/>
              </a:lnSpc>
              <a:buClr>
                <a:srgbClr val="0000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4d"/>
                </a:solidFill>
                <a:latin typeface="Calibri"/>
              </a:rPr>
              <a:t>c) bűncselekmény megelőzése, az adott bűncselekmény felderítése, folytatásának megakadályozása érdekében tájékoztatja a NAV nyomozó hatóságát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609480" indent="-221400" algn="just">
              <a:lnSpc>
                <a:spcPct val="100000"/>
              </a:lnSpc>
              <a:buClr>
                <a:srgbClr val="0000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4d"/>
                </a:solidFill>
                <a:latin typeface="Calibri"/>
              </a:rPr>
              <a:t>90/B. § (1) Az adóhatóság </a:t>
            </a:r>
            <a:r>
              <a:rPr b="0" lang="hu-HU" sz="1400" spc="-1" strike="noStrike">
                <a:solidFill>
                  <a:srgbClr val="00004d"/>
                </a:solidFill>
                <a:latin typeface="Calibri"/>
              </a:rPr>
              <a:t>a támogató eljárás keretében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609480" indent="-221400" algn="just">
              <a:lnSpc>
                <a:spcPct val="100000"/>
              </a:lnSpc>
              <a:buClr>
                <a:srgbClr val="0000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4d"/>
                </a:solidFill>
                <a:latin typeface="Calibri"/>
              </a:rPr>
              <a:t>a) az adózót </a:t>
            </a:r>
            <a:r>
              <a:rPr b="0" lang="hu-HU" sz="1400" spc="-1" strike="noStrike">
                <a:solidFill>
                  <a:srgbClr val="00004d"/>
                </a:solidFill>
                <a:latin typeface="Calibri"/>
              </a:rPr>
              <a:t>felhívja önellenőrzésre</a:t>
            </a:r>
            <a:r>
              <a:rPr b="0" lang="hu-HU" sz="1400" spc="-1" strike="noStrike">
                <a:solidFill>
                  <a:srgbClr val="00004d"/>
                </a:solidFill>
                <a:latin typeface="Calibri"/>
              </a:rPr>
              <a:t>, illetve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609480" indent="-221400" algn="just">
              <a:lnSpc>
                <a:spcPct val="100000"/>
              </a:lnSpc>
              <a:buClr>
                <a:srgbClr val="0000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4d"/>
                </a:solidFill>
                <a:latin typeface="Calibri"/>
              </a:rPr>
              <a:t>b) </a:t>
            </a:r>
            <a:r>
              <a:rPr b="0" lang="hu-HU" sz="1400" spc="-1" strike="noStrike">
                <a:solidFill>
                  <a:srgbClr val="00004d"/>
                </a:solidFill>
                <a:latin typeface="Calibri"/>
              </a:rPr>
              <a:t>kapcsolatfelvételt kezdeményez </a:t>
            </a:r>
            <a:r>
              <a:rPr b="0" lang="hu-HU" sz="1400" spc="-1" strike="noStrike">
                <a:solidFill>
                  <a:srgbClr val="00004d"/>
                </a:solidFill>
                <a:latin typeface="Calibri"/>
              </a:rPr>
              <a:t>az adózóval, melynek célja a feltárt hibák, hiányosságok orvoslása az adóhatóság szakmai támogatásával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609480" indent="-221400" algn="just">
              <a:lnSpc>
                <a:spcPct val="100000"/>
              </a:lnSpc>
              <a:buClr>
                <a:srgbClr val="0000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4d"/>
                </a:solidFill>
                <a:latin typeface="Calibri"/>
              </a:rPr>
              <a:t>(2) A támogató eljárásban való. </a:t>
            </a:r>
            <a:r>
              <a:rPr b="0" lang="hu-HU" sz="1400" spc="-1" strike="noStrike">
                <a:solidFill>
                  <a:srgbClr val="00004d"/>
                </a:solidFill>
                <a:latin typeface="Calibri"/>
              </a:rPr>
              <a:t>részvétel önkéntes, </a:t>
            </a:r>
            <a:r>
              <a:rPr b="0" lang="hu-HU" sz="1400" spc="-1" strike="noStrike" u="sng">
                <a:solidFill>
                  <a:srgbClr val="00004d"/>
                </a:solidFill>
                <a:uFillTx/>
                <a:latin typeface="Calibri"/>
              </a:rPr>
              <a:t>az eljárás keretében rendezett jogsértések miatt szankcionálásnak nincs helye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609480" indent="-221400" algn="just">
              <a:lnSpc>
                <a:spcPct val="100000"/>
              </a:lnSpc>
              <a:buClr>
                <a:srgbClr val="0000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4d"/>
                </a:solidFill>
                <a:latin typeface="Calibri"/>
              </a:rPr>
              <a:t>(3) Az (1) bekezdés b) pontja szerinti eljárást az </a:t>
            </a:r>
            <a:r>
              <a:rPr b="0" lang="hu-HU" sz="1400" spc="-1" strike="noStrike">
                <a:solidFill>
                  <a:srgbClr val="00004d"/>
                </a:solidFill>
                <a:latin typeface="Calibri"/>
              </a:rPr>
              <a:t>adóhatóság jegyzőkönyvvel zárja le</a:t>
            </a:r>
            <a:r>
              <a:rPr b="0" lang="hu-HU" sz="1400" spc="-1" strike="noStrike">
                <a:solidFill>
                  <a:srgbClr val="00004d"/>
                </a:solidFill>
                <a:latin typeface="Calibri"/>
              </a:rPr>
              <a:t>. A jegyzőkönyvben fel kell tüntetni </a:t>
            </a:r>
            <a:r>
              <a:rPr b="0" lang="hu-HU" sz="1400" spc="-1" strike="noStrike">
                <a:solidFill>
                  <a:srgbClr val="00004d"/>
                </a:solidFill>
                <a:latin typeface="Calibri"/>
              </a:rPr>
              <a:t>a kockázatelemzési eljárásban feltárt hibákat, hiányosságokat, az azok orvoslása érdekében tett intézkedéseket és a támogató eljárás eredményességét vagy eredménytelenségét.</a:t>
            </a:r>
            <a:r>
              <a:rPr b="0" lang="hu-HU" sz="1400" spc="-1" strike="noStrike">
                <a:solidFill>
                  <a:srgbClr val="00004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609480" indent="-221400" algn="just">
              <a:lnSpc>
                <a:spcPct val="100000"/>
              </a:lnSpc>
              <a:buClr>
                <a:srgbClr val="0000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4d"/>
                </a:solidFill>
                <a:latin typeface="Calibri"/>
              </a:rPr>
              <a:t>(4) A támogató eljárás </a:t>
            </a:r>
            <a:r>
              <a:rPr b="0" lang="hu-HU" sz="1400" spc="-1" strike="noStrike">
                <a:solidFill>
                  <a:srgbClr val="00004d"/>
                </a:solidFill>
                <a:latin typeface="Calibri"/>
              </a:rPr>
              <a:t>eredménytelensége esetén </a:t>
            </a:r>
            <a:r>
              <a:rPr b="0" lang="hu-HU" sz="1400" spc="-1" strike="noStrike">
                <a:solidFill>
                  <a:srgbClr val="00004d"/>
                </a:solidFill>
                <a:latin typeface="Calibri"/>
              </a:rPr>
              <a:t>az adóhatóság elrendelheti az adózó ellenőrzését.”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21400" indent="-221400" algn="just">
              <a:lnSpc>
                <a:spcPct val="100000"/>
              </a:lnSpc>
              <a:buClr>
                <a:srgbClr val="00004d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Kép 78" descr=""/>
          <p:cNvPicPr/>
          <p:nvPr/>
        </p:nvPicPr>
        <p:blipFill>
          <a:blip r:embed="rId1">
            <a:lum contrast="-18000"/>
          </a:blip>
          <a:srcRect l="0" t="-11174" r="59396" b="63504"/>
          <a:stretch/>
        </p:blipFill>
        <p:spPr>
          <a:xfrm>
            <a:off x="7257960" y="0"/>
            <a:ext cx="2648160" cy="539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te_t_sarok"/>
          <p:cNvPicPr/>
          <p:nvPr/>
        </p:nvPicPr>
        <p:blipFill>
          <a:blip r:embed="rId2"/>
          <a:stretch/>
        </p:blipFill>
        <p:spPr>
          <a:xfrm>
            <a:off x="8215200" y="2987640"/>
            <a:ext cx="1690920" cy="169236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4"/>
          <p:cNvSpPr/>
          <p:nvPr/>
        </p:nvSpPr>
        <p:spPr>
          <a:xfrm>
            <a:off x="4182120" y="90360"/>
            <a:ext cx="154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Idegenforgalmi ad</a:t>
            </a:r>
            <a:r>
              <a:rPr b="0" lang="hu-HU" sz="1200" spc="-1" strike="noStrike">
                <a:solidFill>
                  <a:srgbClr val="ffffff"/>
                </a:solidFill>
                <a:latin typeface="Century Gothic"/>
              </a:rPr>
              <a:t>ó</a:t>
            </a: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203400" y="120960"/>
            <a:ext cx="3253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Idegenforgalmi ad</a:t>
            </a:r>
            <a:r>
              <a:rPr b="0" lang="hu-HU" sz="1200" spc="-1" strike="noStrike">
                <a:solidFill>
                  <a:srgbClr val="ffffff"/>
                </a:solidFill>
                <a:latin typeface="Century Gothic"/>
              </a:rPr>
              <a:t>ó</a:t>
            </a: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ffffff"/>
                </a:solidFill>
                <a:latin typeface="Century Gothic"/>
              </a:rPr>
              <a:t>Idegenforgalmi adó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72520" y="539280"/>
            <a:ext cx="891540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4d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Miben tudnak az önkormányzati adóhatóságok segítséget adni, hogy az adóztatás mindenki számára megnyugtató legye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28560" indent="-228600" algn="just">
              <a:lnSpc>
                <a:spcPct val="90000"/>
              </a:lnSpc>
              <a:buClr>
                <a:srgbClr val="0000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Önkormányzati rendelet alkotás</a:t>
            </a:r>
            <a:r>
              <a:rPr b="0" lang="hu-HU" sz="20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, olyan jogszabályokat kell előterjeszteni, ami biztosítja az elvárt adóbevételeket, törvényes és az adóteher megfizethető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28880" indent="-228600" algn="just">
              <a:lnSpc>
                <a:spcPct val="90000"/>
              </a:lnSpc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előkészítő munka: </a:t>
            </a:r>
            <a:r>
              <a:rPr b="0" i="1" lang="hu-HU" sz="20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modellezés</a:t>
            </a:r>
            <a:r>
              <a:rPr b="0" i="1" lang="hu-HU" sz="20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, adóteher bemutatása, egyeztetés a megyei kamarával, vagy más érdekképviseletekkel </a:t>
            </a:r>
            <a:r>
              <a:rPr b="0" i="1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(pl.: szállásadók) </a:t>
            </a:r>
            <a:r>
              <a:rPr b="0" i="1" lang="hu-HU" sz="20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egyetértés szükséges</a:t>
            </a:r>
            <a:r>
              <a:rPr b="0" i="1" lang="hu-HU" sz="20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28560" indent="-228600" algn="just">
              <a:lnSpc>
                <a:spcPct val="90000"/>
              </a:lnSpc>
              <a:buClr>
                <a:srgbClr val="0000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00004d"/>
                </a:solidFill>
                <a:uFillTx/>
                <a:latin typeface="Times New Roman"/>
                <a:ea typeface="Times New Roman"/>
              </a:rPr>
              <a:t>Tájékoztatás a megváltozott szabályokról </a:t>
            </a:r>
            <a:r>
              <a:rPr b="0" i="1" lang="hu-HU" sz="20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(többször!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28880" indent="-228600" algn="just">
              <a:lnSpc>
                <a:spcPct val="90000"/>
              </a:lnSpc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önkormányzat honlapja </a:t>
            </a:r>
            <a:r>
              <a:rPr b="0" i="1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(de ez önmagában nem elég)</a:t>
            </a:r>
            <a:r>
              <a:rPr b="0" lang="hu-HU" sz="20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28880" indent="-228600" algn="just">
              <a:lnSpc>
                <a:spcPct val="90000"/>
              </a:lnSpc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más helyben szokásos módok </a:t>
            </a:r>
            <a:r>
              <a:rPr b="0" i="1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(pl.: újság, levél, rádió, tv, e-mail stb.)</a:t>
            </a:r>
            <a:r>
              <a:rPr b="0" i="1" lang="hu-HU" sz="20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28880" indent="-228600" algn="just">
              <a:lnSpc>
                <a:spcPct val="90000"/>
              </a:lnSpc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saját adatbázis használata, </a:t>
            </a:r>
            <a:r>
              <a:rPr b="0" i="1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(körlevél készítés (xls, doc, pdf stb.,)</a:t>
            </a:r>
            <a:r>
              <a:rPr b="0" lang="hu-HU" sz="16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Kép 78" descr=""/>
          <p:cNvPicPr/>
          <p:nvPr/>
        </p:nvPicPr>
        <p:blipFill>
          <a:blip r:embed="rId1">
            <a:lum contrast="-18000"/>
          </a:blip>
          <a:srcRect l="0" t="-11174" r="59396" b="63504"/>
          <a:stretch/>
        </p:blipFill>
        <p:spPr>
          <a:xfrm>
            <a:off x="7257960" y="0"/>
            <a:ext cx="2648160" cy="5396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te_t_sarok"/>
          <p:cNvPicPr/>
          <p:nvPr/>
        </p:nvPicPr>
        <p:blipFill>
          <a:blip r:embed="rId2"/>
          <a:stretch/>
        </p:blipFill>
        <p:spPr>
          <a:xfrm>
            <a:off x="8215200" y="2987640"/>
            <a:ext cx="1690920" cy="169236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4"/>
          <p:cNvSpPr/>
          <p:nvPr/>
        </p:nvSpPr>
        <p:spPr>
          <a:xfrm>
            <a:off x="4182120" y="90360"/>
            <a:ext cx="154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Idegenforgalmi ad</a:t>
            </a:r>
            <a:r>
              <a:rPr b="0" lang="hu-HU" sz="1200" spc="-1" strike="noStrike">
                <a:solidFill>
                  <a:srgbClr val="ffffff"/>
                </a:solidFill>
                <a:latin typeface="Century Gothic"/>
              </a:rPr>
              <a:t>ó</a:t>
            </a: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203400" y="120960"/>
            <a:ext cx="3253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Idegenforgalmi ad</a:t>
            </a:r>
            <a:r>
              <a:rPr b="0" lang="hu-HU" sz="1200" spc="-1" strike="noStrike">
                <a:solidFill>
                  <a:srgbClr val="ffffff"/>
                </a:solidFill>
                <a:latin typeface="Century Gothic"/>
              </a:rPr>
              <a:t>ó</a:t>
            </a: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ffffff"/>
                </a:solidFill>
                <a:latin typeface="Century Gothic"/>
              </a:rPr>
              <a:t>Idegenforgalmi adó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72520" y="539280"/>
            <a:ext cx="891540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 algn="just">
              <a:lnSpc>
                <a:spcPct val="90000"/>
              </a:lnSpc>
              <a:spcBef>
                <a:spcPts val="1001"/>
              </a:spcBef>
              <a:buClr>
                <a:srgbClr val="00004d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Miben tudnak az önkormányzati adóhatóságok segítséget adni, hogy az adóztatás mindenki számára megnyugtató legye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15960" indent="-223920" algn="just">
              <a:lnSpc>
                <a:spcPct val="90000"/>
              </a:lnSpc>
              <a:buClr>
                <a:srgbClr val="0000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Névre szóló levelek (!)</a:t>
            </a:r>
            <a:r>
              <a:rPr b="0" lang="hu-HU" sz="20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08000" indent="-223920" algn="just">
              <a:lnSpc>
                <a:spcPct val="90000"/>
              </a:lnSpc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Saját adatbázis</a:t>
            </a:r>
            <a:r>
              <a:rPr b="0" i="1" lang="hu-HU" sz="20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, bevallások, alapján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08000" indent="-223920" algn="just">
              <a:lnSpc>
                <a:spcPct val="90000"/>
              </a:lnSpc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Önkormányzatnál fellehető adatok </a:t>
            </a:r>
            <a:r>
              <a:rPr b="0" i="1" lang="hu-HU" sz="20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(engedélyek, szerződések, nyilvántartások) alapján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08000" indent="-223920" algn="just">
              <a:lnSpc>
                <a:spcPct val="90000"/>
              </a:lnSpc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NAV-nál nyilvántartott adatok</a:t>
            </a:r>
            <a:r>
              <a:rPr b="0" i="1" lang="hu-HU" sz="20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, (vállalkozók (th,szkh) bejelentkezése, bevallása (szja (tételes átalányadó (sz/32ehuf/év), tao, innovációs járadék, stb.)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08000" indent="-223920" algn="just">
              <a:lnSpc>
                <a:spcPct val="90000"/>
              </a:lnSpc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Ingatlannyilvántartás</a:t>
            </a:r>
            <a:r>
              <a:rPr b="0" i="1" lang="hu-HU" sz="20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 (földkönyv) adatai alapján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08000" indent="-223920" algn="just">
              <a:lnSpc>
                <a:spcPct val="90000"/>
              </a:lnSpc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Szálláshely szolgáltatók </a:t>
            </a:r>
            <a:r>
              <a:rPr b="0" i="1" lang="hu-HU" sz="20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(szállás.hu, booking.com, KSH stb.) adatai alapján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08000" indent="-223920" algn="just">
              <a:lnSpc>
                <a:spcPct val="90000"/>
              </a:lnSpc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Iparűzési adóalany érintettek adatszolgáltatása </a:t>
            </a:r>
            <a:r>
              <a:rPr b="0" i="1" lang="hu-HU" sz="20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(pl.: ideiglenes hipa).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23920" indent="-22392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23920" indent="-223920" algn="just">
              <a:lnSpc>
                <a:spcPct val="90000"/>
              </a:lnSpc>
              <a:spcBef>
                <a:spcPts val="1001"/>
              </a:spcBef>
              <a:buClr>
                <a:srgbClr val="00004d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Kép 78" descr=""/>
          <p:cNvPicPr/>
          <p:nvPr/>
        </p:nvPicPr>
        <p:blipFill>
          <a:blip r:embed="rId1">
            <a:lum contrast="-18000"/>
          </a:blip>
          <a:srcRect l="0" t="-11174" r="59396" b="63504"/>
          <a:stretch/>
        </p:blipFill>
        <p:spPr>
          <a:xfrm>
            <a:off x="7257960" y="0"/>
            <a:ext cx="2648160" cy="5396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te_t_sarok"/>
          <p:cNvPicPr/>
          <p:nvPr/>
        </p:nvPicPr>
        <p:blipFill>
          <a:blip r:embed="rId2"/>
          <a:stretch/>
        </p:blipFill>
        <p:spPr>
          <a:xfrm>
            <a:off x="8215200" y="2987640"/>
            <a:ext cx="1690920" cy="169236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4"/>
          <p:cNvSpPr/>
          <p:nvPr/>
        </p:nvSpPr>
        <p:spPr>
          <a:xfrm>
            <a:off x="4182120" y="90360"/>
            <a:ext cx="154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Idegenforgalmi ad</a:t>
            </a:r>
            <a:r>
              <a:rPr b="0" lang="hu-HU" sz="1200" spc="-1" strike="noStrike">
                <a:solidFill>
                  <a:srgbClr val="ffffff"/>
                </a:solidFill>
                <a:latin typeface="Century Gothic"/>
              </a:rPr>
              <a:t>ó</a:t>
            </a: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203400" y="120960"/>
            <a:ext cx="3253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Idegenforgalmi ad</a:t>
            </a:r>
            <a:r>
              <a:rPr b="0" lang="hu-HU" sz="1200" spc="-1" strike="noStrike">
                <a:solidFill>
                  <a:srgbClr val="ffffff"/>
                </a:solidFill>
                <a:latin typeface="Century Gothic"/>
              </a:rPr>
              <a:t>ó</a:t>
            </a: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ffffff"/>
                </a:solidFill>
                <a:latin typeface="Century Gothic"/>
              </a:rPr>
              <a:t>Idegenforgalmi adó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72520" y="539280"/>
            <a:ext cx="891540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 algn="just">
              <a:lnSpc>
                <a:spcPct val="90000"/>
              </a:lnSpc>
              <a:spcBef>
                <a:spcPts val="1001"/>
              </a:spcBef>
              <a:buClr>
                <a:srgbClr val="00004d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Felhasználható nyilvántartások 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96880" indent="-217080" algn="just">
              <a:lnSpc>
                <a:spcPct val="90000"/>
              </a:lnSpc>
              <a:buClr>
                <a:srgbClr val="0000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Art. 52.§ (2) Más hatóság, közfeladatot ellátó adatkezelő szerv nyilvántartásában, vagy adózói nyilvántartásban szereplő adatot </a:t>
            </a:r>
            <a:r>
              <a:rPr b="0" i="1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(többek között) </a:t>
            </a:r>
            <a:r>
              <a:rPr b="0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az adóhatóság az adózó és az adó megfizetésére kötelezett személy azonosításához</a:t>
            </a:r>
            <a:r>
              <a:rPr b="0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, az </a:t>
            </a:r>
            <a:r>
              <a:rPr b="0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adókötelezettség, az adózók ellenőrzésre történő kiválasztásához</a:t>
            </a:r>
            <a:r>
              <a:rPr b="0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, </a:t>
            </a:r>
            <a:r>
              <a:rPr b="0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ellenőrzéséhez, végrehajtási eljárás lefolytatásához, használhatja fel</a:t>
            </a:r>
            <a:r>
              <a:rPr b="0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596880" indent="-217080" algn="just">
              <a:lnSpc>
                <a:spcPct val="90000"/>
              </a:lnSpc>
              <a:buClr>
                <a:srgbClr val="0000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A (2) bekezdés alkalmazása során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977400" indent="-217080" algn="just">
              <a:lnSpc>
                <a:spcPct val="90000"/>
              </a:lnSpc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a </a:t>
            </a:r>
            <a:r>
              <a:rPr b="0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személyiadat- és lakcímnyilvántartás</a:t>
            </a:r>
            <a:r>
              <a:rPr b="0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977400" indent="-217080" algn="just">
              <a:lnSpc>
                <a:spcPct val="90000"/>
              </a:lnSpc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a </a:t>
            </a:r>
            <a:r>
              <a:rPr b="0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cégnyilvántartás</a:t>
            </a:r>
            <a:r>
              <a:rPr b="0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977400" indent="-217080" algn="just">
              <a:lnSpc>
                <a:spcPct val="90000"/>
              </a:lnSpc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az </a:t>
            </a:r>
            <a:r>
              <a:rPr b="0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ingatlan-nyilvántartás</a:t>
            </a:r>
            <a:r>
              <a:rPr b="0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977400" indent="-217080" algn="just">
              <a:lnSpc>
                <a:spcPct val="90000"/>
              </a:lnSpc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a </a:t>
            </a:r>
            <a:r>
              <a:rPr b="0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közúti közlekedési nyilvántartás</a:t>
            </a:r>
            <a:r>
              <a:rPr b="0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977400" indent="-217080" algn="just">
              <a:lnSpc>
                <a:spcPct val="90000"/>
              </a:lnSpc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az </a:t>
            </a:r>
            <a:r>
              <a:rPr b="0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építésfelügyeleti nyilvántartás</a:t>
            </a:r>
            <a:r>
              <a:rPr b="0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, illetve valamennyi más, jogszabály alapján </a:t>
            </a:r>
            <a:r>
              <a:rPr b="0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közhiteles nyilvántartás </a:t>
            </a:r>
            <a:r>
              <a:rPr b="0" i="1" lang="hu-HU" sz="16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(pl.:a földhasználati nyilvántartás, a zálogjogi nyilvántartás, az úszólétesítmény-nyilvántartás, a légijármű-nyilvántartás)</a:t>
            </a:r>
            <a:r>
              <a:rPr b="0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 </a:t>
            </a:r>
            <a:r>
              <a:rPr b="0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térítés nélkül felhasználható</a:t>
            </a:r>
            <a:r>
              <a:rPr b="0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411560" indent="-217080" algn="just">
              <a:lnSpc>
                <a:spcPct val="90000"/>
              </a:lnSpc>
              <a:buClr>
                <a:srgbClr val="00004d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Kép 78" descr=""/>
          <p:cNvPicPr/>
          <p:nvPr/>
        </p:nvPicPr>
        <p:blipFill>
          <a:blip r:embed="rId1">
            <a:lum contrast="-18000"/>
          </a:blip>
          <a:srcRect l="0" t="-11174" r="59396" b="63504"/>
          <a:stretch/>
        </p:blipFill>
        <p:spPr>
          <a:xfrm>
            <a:off x="7257960" y="0"/>
            <a:ext cx="2648160" cy="539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te_t_sarok"/>
          <p:cNvPicPr/>
          <p:nvPr/>
        </p:nvPicPr>
        <p:blipFill>
          <a:blip r:embed="rId2"/>
          <a:stretch/>
        </p:blipFill>
        <p:spPr>
          <a:xfrm>
            <a:off x="8215200" y="2987640"/>
            <a:ext cx="1690920" cy="169236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4"/>
          <p:cNvSpPr/>
          <p:nvPr/>
        </p:nvSpPr>
        <p:spPr>
          <a:xfrm>
            <a:off x="4182120" y="90360"/>
            <a:ext cx="154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Idegenforgalmi ad</a:t>
            </a:r>
            <a:r>
              <a:rPr b="0" lang="hu-HU" sz="1200" spc="-1" strike="noStrike">
                <a:solidFill>
                  <a:srgbClr val="ffffff"/>
                </a:solidFill>
                <a:latin typeface="Century Gothic"/>
              </a:rPr>
              <a:t>ó</a:t>
            </a: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203400" y="120960"/>
            <a:ext cx="3253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Idegenforgalmi ad</a:t>
            </a:r>
            <a:r>
              <a:rPr b="0" lang="hu-HU" sz="1200" spc="-1" strike="noStrike">
                <a:solidFill>
                  <a:srgbClr val="ffffff"/>
                </a:solidFill>
                <a:latin typeface="Century Gothic"/>
              </a:rPr>
              <a:t>ó</a:t>
            </a: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ffffff"/>
                </a:solidFill>
                <a:latin typeface="Century Gothic"/>
              </a:rPr>
              <a:t>Idegenforgalmi adó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72520" y="539280"/>
            <a:ext cx="891540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4d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Ingatlannyilvántartá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28560" indent="-228600" algn="just">
              <a:lnSpc>
                <a:spcPct val="90000"/>
              </a:lnSpc>
              <a:buClr>
                <a:srgbClr val="0000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Art. 3. számú melléklete alapján (52.§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28560" indent="-228600" algn="just">
              <a:lnSpc>
                <a:spcPct val="90000"/>
              </a:lnSpc>
              <a:buClr>
                <a:srgbClr val="0000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Az ingatlanügyi hatóság az </a:t>
            </a:r>
            <a:r>
              <a:rPr b="0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önkormányzati adóhatóság megkeresésére </a:t>
            </a:r>
            <a:r>
              <a:rPr b="0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évente egy alkalommal - kizárólag az építményadó, a telekadó, a magánszemély kommunális adója, a települési adó </a:t>
            </a:r>
            <a:r>
              <a:rPr b="0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bevezetése, továbbá megállapítása (kivetése), ellenőrzése céljából </a:t>
            </a:r>
            <a:r>
              <a:rPr b="0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-, </a:t>
            </a:r>
            <a:r>
              <a:rPr b="0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térítésmentesen</a:t>
            </a:r>
            <a:r>
              <a:rPr b="0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, </a:t>
            </a:r>
            <a:r>
              <a:rPr b="0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elektronikusan feldolgozható formában </a:t>
            </a:r>
            <a:r>
              <a:rPr b="0" i="1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(pl.: XML, TXT)</a:t>
            </a:r>
            <a:r>
              <a:rPr b="0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, a megkeresés beérkezését követő 30 munkanapon belül adatot szolgáltat az önkormányzati adóhatóság illetékességi területén található, a nyilvántartásában szereplő </a:t>
            </a:r>
            <a:r>
              <a:rPr b="0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valamennyi ingatlannak a megkeresés szerinti év január 1-jén hatályos adatairól</a:t>
            </a:r>
            <a:r>
              <a:rPr b="0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28560" indent="-228600" algn="just">
              <a:lnSpc>
                <a:spcPct val="90000"/>
              </a:lnSpc>
              <a:buClr>
                <a:srgbClr val="0000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A megkeresésben meg kell jelölni a kért adatok felhasználásnak célját. A kapott adatok kizárólag a megjelölt célra használhatóak fel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Kép 78" descr=""/>
          <p:cNvPicPr/>
          <p:nvPr/>
        </p:nvPicPr>
        <p:blipFill>
          <a:blip r:embed="rId1">
            <a:lum contrast="-18000"/>
          </a:blip>
          <a:srcRect l="0" t="-11174" r="59396" b="63504"/>
          <a:stretch/>
        </p:blipFill>
        <p:spPr>
          <a:xfrm>
            <a:off x="7257960" y="0"/>
            <a:ext cx="2648160" cy="5396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te_t_sarok"/>
          <p:cNvPicPr/>
          <p:nvPr/>
        </p:nvPicPr>
        <p:blipFill>
          <a:blip r:embed="rId2"/>
          <a:stretch/>
        </p:blipFill>
        <p:spPr>
          <a:xfrm>
            <a:off x="8215200" y="2987640"/>
            <a:ext cx="1690920" cy="169236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4"/>
          <p:cNvSpPr/>
          <p:nvPr/>
        </p:nvSpPr>
        <p:spPr>
          <a:xfrm>
            <a:off x="4182120" y="90360"/>
            <a:ext cx="154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Idegenforgalmi ad</a:t>
            </a:r>
            <a:r>
              <a:rPr b="0" lang="hu-HU" sz="1200" spc="-1" strike="noStrike">
                <a:solidFill>
                  <a:srgbClr val="ffffff"/>
                </a:solidFill>
                <a:latin typeface="Century Gothic"/>
              </a:rPr>
              <a:t>ó</a:t>
            </a: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203400" y="120960"/>
            <a:ext cx="3253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Idegenforgalmi ad</a:t>
            </a:r>
            <a:r>
              <a:rPr b="0" lang="hu-HU" sz="1200" spc="-1" strike="noStrike">
                <a:solidFill>
                  <a:srgbClr val="ffffff"/>
                </a:solidFill>
                <a:latin typeface="Century Gothic"/>
              </a:rPr>
              <a:t>ó</a:t>
            </a: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ffffff"/>
                </a:solidFill>
                <a:latin typeface="Century Gothic"/>
              </a:rPr>
              <a:t>Idegenforgalmi adó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72520" y="539280"/>
            <a:ext cx="891540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4d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Ingatlannyilvántartás és onkado kapcsolat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4d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2016. szept 30-i zárás alapján: 24.784 adózó, adótárgyak száma: 40.877 d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4d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Kép 1" descr=""/>
          <p:cNvPicPr/>
          <p:nvPr/>
        </p:nvPicPr>
        <p:blipFill>
          <a:blip r:embed="rId3"/>
          <a:stretch/>
        </p:blipFill>
        <p:spPr>
          <a:xfrm>
            <a:off x="1208160" y="1469880"/>
            <a:ext cx="7307280" cy="1016280"/>
          </a:xfrm>
          <a:prstGeom prst="rect">
            <a:avLst/>
          </a:prstGeom>
          <a:ln w="0">
            <a:noFill/>
          </a:ln>
        </p:spPr>
      </p:pic>
      <p:pic>
        <p:nvPicPr>
          <p:cNvPr id="186" name="Kép 2" descr=""/>
          <p:cNvPicPr/>
          <p:nvPr/>
        </p:nvPicPr>
        <p:blipFill>
          <a:blip r:embed="rId4"/>
          <a:stretch/>
        </p:blipFill>
        <p:spPr>
          <a:xfrm>
            <a:off x="647640" y="2583000"/>
            <a:ext cx="8661600" cy="101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Kép 78" descr=""/>
          <p:cNvPicPr/>
          <p:nvPr/>
        </p:nvPicPr>
        <p:blipFill>
          <a:blip r:embed="rId1">
            <a:lum contrast="-18000"/>
          </a:blip>
          <a:srcRect l="0" t="-11174" r="59396" b="63504"/>
          <a:stretch/>
        </p:blipFill>
        <p:spPr>
          <a:xfrm>
            <a:off x="7257960" y="0"/>
            <a:ext cx="2648160" cy="5396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7" descr="te_t_sarok"/>
          <p:cNvPicPr/>
          <p:nvPr/>
        </p:nvPicPr>
        <p:blipFill>
          <a:blip r:embed="rId2"/>
          <a:stretch/>
        </p:blipFill>
        <p:spPr>
          <a:xfrm>
            <a:off x="8215200" y="2987640"/>
            <a:ext cx="1690920" cy="169236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4"/>
          <p:cNvSpPr/>
          <p:nvPr/>
        </p:nvSpPr>
        <p:spPr>
          <a:xfrm>
            <a:off x="4182120" y="90360"/>
            <a:ext cx="154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Idegenforgalmi ad</a:t>
            </a:r>
            <a:r>
              <a:rPr b="0" lang="hu-HU" sz="1200" spc="-1" strike="noStrike">
                <a:solidFill>
                  <a:srgbClr val="ffffff"/>
                </a:solidFill>
                <a:latin typeface="Century Gothic"/>
              </a:rPr>
              <a:t>ó</a:t>
            </a: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203400" y="120960"/>
            <a:ext cx="3253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Idegenforgalmi ad</a:t>
            </a:r>
            <a:r>
              <a:rPr b="0" lang="hu-HU" sz="1200" spc="-1" strike="noStrike">
                <a:solidFill>
                  <a:srgbClr val="ffffff"/>
                </a:solidFill>
                <a:latin typeface="Century Gothic"/>
              </a:rPr>
              <a:t>ó</a:t>
            </a: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ffffff"/>
                </a:solidFill>
                <a:latin typeface="Century Gothic"/>
              </a:rPr>
              <a:t>Idegenforgalmi adó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72520" y="539280"/>
            <a:ext cx="891540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4d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Ingatlannyilvántartás és onkado kapcsolat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4d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2016. szept 30-i zárás alapján: 24.784 adózó, adótárgyak száma: 40.877 d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4d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Diagram 9" descr=""/>
          <p:cNvPicPr/>
          <p:nvPr/>
        </p:nvPicPr>
        <p:blipFill>
          <a:blip r:embed="rId3"/>
          <a:stretch/>
        </p:blipFill>
        <p:spPr>
          <a:xfrm>
            <a:off x="2444760" y="1328760"/>
            <a:ext cx="45720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Kép 78" descr=""/>
          <p:cNvPicPr/>
          <p:nvPr/>
        </p:nvPicPr>
        <p:blipFill>
          <a:blip r:embed="rId1">
            <a:lum contrast="-18000"/>
          </a:blip>
          <a:srcRect l="0" t="-11174" r="59396" b="63504"/>
          <a:stretch/>
        </p:blipFill>
        <p:spPr>
          <a:xfrm>
            <a:off x="7257960" y="0"/>
            <a:ext cx="2648160" cy="539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te_t_sarok"/>
          <p:cNvPicPr/>
          <p:nvPr/>
        </p:nvPicPr>
        <p:blipFill>
          <a:blip r:embed="rId2"/>
          <a:stretch/>
        </p:blipFill>
        <p:spPr>
          <a:xfrm>
            <a:off x="8215200" y="2987640"/>
            <a:ext cx="1690920" cy="16923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4"/>
          <p:cNvSpPr/>
          <p:nvPr/>
        </p:nvSpPr>
        <p:spPr>
          <a:xfrm>
            <a:off x="4182120" y="90360"/>
            <a:ext cx="154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Idegenforgalmi ad</a:t>
            </a:r>
            <a:r>
              <a:rPr b="0" lang="hu-HU" sz="1200" spc="-1" strike="noStrike">
                <a:solidFill>
                  <a:srgbClr val="ffffff"/>
                </a:solidFill>
                <a:latin typeface="Century Gothic"/>
              </a:rPr>
              <a:t>ó</a:t>
            </a: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203400" y="120960"/>
            <a:ext cx="3253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Idegenforgalmi ad</a:t>
            </a:r>
            <a:r>
              <a:rPr b="0" lang="hu-HU" sz="1200" spc="-1" strike="noStrike">
                <a:solidFill>
                  <a:srgbClr val="ffffff"/>
                </a:solidFill>
                <a:latin typeface="Century Gothic"/>
              </a:rPr>
              <a:t>ó</a:t>
            </a: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ffffff"/>
                </a:solidFill>
                <a:latin typeface="Century Gothic"/>
              </a:rPr>
              <a:t>Idegenforgalmi adó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72520" y="539280"/>
            <a:ext cx="891540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4d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Alapelvek és fő szempontok </a:t>
            </a:r>
            <a:r>
              <a:rPr b="0" lang="hu-HU" sz="24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Eger Megyei Jogú Városban </a:t>
            </a:r>
            <a:r>
              <a:rPr b="0" lang="hu-HU" sz="24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az önkormányzati adóeljárásokba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28560" indent="-228600" algn="just">
              <a:lnSpc>
                <a:spcPct val="90000"/>
              </a:lnSpc>
              <a:spcBef>
                <a:spcPts val="1001"/>
              </a:spcBef>
              <a:buClr>
                <a:srgbClr val="0000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Önkormányzati adóhatóság </a:t>
            </a:r>
            <a:r>
              <a:rPr b="0" lang="hu-HU" sz="24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szolgáltató jellegének erősítése</a:t>
            </a:r>
            <a:r>
              <a:rPr b="0" lang="hu-HU" sz="24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28880" indent="-228600" algn="just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(várható változás: az adóhatóság a mulasztás jogkövetkezményeire történő figyelmeztetés mellett 15 napos határidő tűzésével felhívja az adózót az adókötelezettség jogszerű teljesítésére, ennek hiányában lehet majd bírságolással élni, melynek mértéke is jelentősen csökken a jövőben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28560" indent="-228600" algn="just">
              <a:lnSpc>
                <a:spcPct val="90000"/>
              </a:lnSpc>
              <a:spcBef>
                <a:spcPts val="1001"/>
              </a:spcBef>
              <a:buClr>
                <a:srgbClr val="0000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Önkéntes </a:t>
            </a:r>
            <a:r>
              <a:rPr b="0" lang="hu-HU" sz="24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jogkövető magatartás támogatás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28880" indent="-228600" algn="just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(kockázatelemzési eljárások hiánya ASP 1-2 sem foglalkozik a kérdéssel)</a:t>
            </a:r>
            <a:r>
              <a:rPr b="0" lang="hu-HU" sz="16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Kép 78" descr=""/>
          <p:cNvPicPr/>
          <p:nvPr/>
        </p:nvPicPr>
        <p:blipFill>
          <a:blip r:embed="rId1">
            <a:lum contrast="-18000"/>
          </a:blip>
          <a:srcRect l="0" t="-11174" r="59396" b="63504"/>
          <a:stretch/>
        </p:blipFill>
        <p:spPr>
          <a:xfrm>
            <a:off x="7257960" y="0"/>
            <a:ext cx="2648160" cy="5396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te_t_sarok"/>
          <p:cNvPicPr/>
          <p:nvPr/>
        </p:nvPicPr>
        <p:blipFill>
          <a:blip r:embed="rId2"/>
          <a:stretch/>
        </p:blipFill>
        <p:spPr>
          <a:xfrm>
            <a:off x="8215200" y="2987640"/>
            <a:ext cx="1690920" cy="169236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4"/>
          <p:cNvSpPr/>
          <p:nvPr/>
        </p:nvSpPr>
        <p:spPr>
          <a:xfrm>
            <a:off x="4182120" y="90360"/>
            <a:ext cx="154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Idegenforgalmi ad</a:t>
            </a:r>
            <a:r>
              <a:rPr b="0" lang="hu-HU" sz="1200" spc="-1" strike="noStrike">
                <a:solidFill>
                  <a:srgbClr val="ffffff"/>
                </a:solidFill>
                <a:latin typeface="Century Gothic"/>
              </a:rPr>
              <a:t>ó</a:t>
            </a: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203400" y="120960"/>
            <a:ext cx="3253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Idegenforgalmi ad</a:t>
            </a:r>
            <a:r>
              <a:rPr b="0" lang="hu-HU" sz="1200" spc="-1" strike="noStrike">
                <a:solidFill>
                  <a:srgbClr val="ffffff"/>
                </a:solidFill>
                <a:latin typeface="Century Gothic"/>
              </a:rPr>
              <a:t>ó</a:t>
            </a: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ffffff"/>
                </a:solidFill>
                <a:latin typeface="Century Gothic"/>
              </a:rPr>
              <a:t>Idegenforgalmi adó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72520" y="539280"/>
            <a:ext cx="891540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4d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Ingatlannyilvántartás és onkado kapcsolat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4d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8" name="Diagram 7"/>
          <p:cNvGraphicFramePr/>
          <p:nvPr/>
        </p:nvGraphicFramePr>
        <p:xfrm>
          <a:off x="328680" y="1006560"/>
          <a:ext cx="4673520" cy="2435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99" name="Diagram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8680" y="1006560"/>
                    <a:ext cx="4673520" cy="24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Diagram 8"/>
          <p:cNvGraphicFramePr/>
          <p:nvPr/>
        </p:nvGraphicFramePr>
        <p:xfrm>
          <a:off x="4734000" y="1020600"/>
          <a:ext cx="4673520" cy="24354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1" name="Diagram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34000" y="1020600"/>
                    <a:ext cx="46735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Kép 78" descr=""/>
          <p:cNvPicPr/>
          <p:nvPr/>
        </p:nvPicPr>
        <p:blipFill>
          <a:blip r:embed="rId1">
            <a:lum contrast="-18000"/>
          </a:blip>
          <a:srcRect l="0" t="-11174" r="59396" b="63504"/>
          <a:stretch/>
        </p:blipFill>
        <p:spPr>
          <a:xfrm>
            <a:off x="7257960" y="0"/>
            <a:ext cx="2648160" cy="5396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te_t_sarok"/>
          <p:cNvPicPr/>
          <p:nvPr/>
        </p:nvPicPr>
        <p:blipFill>
          <a:blip r:embed="rId2"/>
          <a:stretch/>
        </p:blipFill>
        <p:spPr>
          <a:xfrm>
            <a:off x="8215200" y="2987640"/>
            <a:ext cx="1690920" cy="169236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4"/>
          <p:cNvSpPr/>
          <p:nvPr/>
        </p:nvSpPr>
        <p:spPr>
          <a:xfrm>
            <a:off x="4182120" y="90360"/>
            <a:ext cx="154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Idegenforgalmi ad</a:t>
            </a:r>
            <a:r>
              <a:rPr b="0" lang="hu-HU" sz="1200" spc="-1" strike="noStrike">
                <a:solidFill>
                  <a:srgbClr val="ffffff"/>
                </a:solidFill>
                <a:latin typeface="Century Gothic"/>
              </a:rPr>
              <a:t>ó</a:t>
            </a: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203400" y="120960"/>
            <a:ext cx="3253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Idegenforgalmi ad</a:t>
            </a:r>
            <a:r>
              <a:rPr b="0" lang="hu-HU" sz="1200" spc="-1" strike="noStrike">
                <a:solidFill>
                  <a:srgbClr val="ffffff"/>
                </a:solidFill>
                <a:latin typeface="Century Gothic"/>
              </a:rPr>
              <a:t>ó</a:t>
            </a: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ffffff"/>
                </a:solidFill>
                <a:latin typeface="Century Gothic"/>
              </a:rPr>
              <a:t>Idegenforgalmi adó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72520" y="539280"/>
            <a:ext cx="891540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4d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Ingatlannyilvántartás és onkado kapcsolat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4d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7" name="Diagram 10" descr=""/>
          <p:cNvPicPr/>
          <p:nvPr/>
        </p:nvPicPr>
        <p:blipFill>
          <a:blip r:embed="rId3"/>
          <a:stretch/>
        </p:blipFill>
        <p:spPr>
          <a:xfrm>
            <a:off x="371520" y="1036800"/>
            <a:ext cx="4584600" cy="2743200"/>
          </a:xfrm>
          <a:prstGeom prst="rect">
            <a:avLst/>
          </a:prstGeom>
          <a:ln w="0">
            <a:noFill/>
          </a:ln>
        </p:spPr>
      </p:pic>
      <p:pic>
        <p:nvPicPr>
          <p:cNvPr id="208" name="Diagram 11" descr=""/>
          <p:cNvPicPr/>
          <p:nvPr/>
        </p:nvPicPr>
        <p:blipFill>
          <a:blip r:embed="rId4"/>
          <a:stretch/>
        </p:blipFill>
        <p:spPr>
          <a:xfrm>
            <a:off x="4956120" y="1073160"/>
            <a:ext cx="457848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Kép 78" descr=""/>
          <p:cNvPicPr/>
          <p:nvPr/>
        </p:nvPicPr>
        <p:blipFill>
          <a:blip r:embed="rId1">
            <a:lum contrast="-18000"/>
          </a:blip>
          <a:srcRect l="0" t="-11174" r="59396" b="63504"/>
          <a:stretch/>
        </p:blipFill>
        <p:spPr>
          <a:xfrm>
            <a:off x="7257960" y="0"/>
            <a:ext cx="2648160" cy="539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7" descr="te_t_sarok"/>
          <p:cNvPicPr/>
          <p:nvPr/>
        </p:nvPicPr>
        <p:blipFill>
          <a:blip r:embed="rId2"/>
          <a:stretch/>
        </p:blipFill>
        <p:spPr>
          <a:xfrm>
            <a:off x="8215200" y="2987640"/>
            <a:ext cx="1690920" cy="169236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4"/>
          <p:cNvSpPr/>
          <p:nvPr/>
        </p:nvSpPr>
        <p:spPr>
          <a:xfrm>
            <a:off x="4182120" y="90360"/>
            <a:ext cx="154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Idegenforgalmi ad</a:t>
            </a:r>
            <a:r>
              <a:rPr b="0" lang="hu-HU" sz="1200" spc="-1" strike="noStrike">
                <a:solidFill>
                  <a:srgbClr val="ffffff"/>
                </a:solidFill>
                <a:latin typeface="Century Gothic"/>
              </a:rPr>
              <a:t>ó</a:t>
            </a: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203400" y="120960"/>
            <a:ext cx="3253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Idegenforgalmi ad</a:t>
            </a:r>
            <a:r>
              <a:rPr b="0" lang="hu-HU" sz="1200" spc="-1" strike="noStrike">
                <a:solidFill>
                  <a:srgbClr val="ffffff"/>
                </a:solidFill>
                <a:latin typeface="Century Gothic"/>
              </a:rPr>
              <a:t>ó</a:t>
            </a: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ffffff"/>
                </a:solidFill>
                <a:latin typeface="Century Gothic"/>
              </a:rPr>
              <a:t>Idegenforgalmi adó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72520" y="539280"/>
            <a:ext cx="891540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4d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Ingatlannyilvántartás és onkado kapcsolat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4d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Diagram 8" descr=""/>
          <p:cNvPicPr/>
          <p:nvPr/>
        </p:nvPicPr>
        <p:blipFill>
          <a:blip r:embed="rId3"/>
          <a:stretch/>
        </p:blipFill>
        <p:spPr>
          <a:xfrm>
            <a:off x="274680" y="1090440"/>
            <a:ext cx="4595760" cy="2743200"/>
          </a:xfrm>
          <a:prstGeom prst="rect">
            <a:avLst/>
          </a:prstGeom>
          <a:ln w="0">
            <a:noFill/>
          </a:ln>
        </p:spPr>
      </p:pic>
      <p:pic>
        <p:nvPicPr>
          <p:cNvPr id="215" name="Diagram 9" descr=""/>
          <p:cNvPicPr/>
          <p:nvPr/>
        </p:nvPicPr>
        <p:blipFill>
          <a:blip r:embed="rId4"/>
          <a:stretch/>
        </p:blipFill>
        <p:spPr>
          <a:xfrm>
            <a:off x="5022720" y="1090440"/>
            <a:ext cx="459756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Kép 78" descr=""/>
          <p:cNvPicPr/>
          <p:nvPr/>
        </p:nvPicPr>
        <p:blipFill>
          <a:blip r:embed="rId1">
            <a:lum contrast="-18000"/>
          </a:blip>
          <a:srcRect l="0" t="-11174" r="59396" b="63504"/>
          <a:stretch/>
        </p:blipFill>
        <p:spPr>
          <a:xfrm>
            <a:off x="7257960" y="0"/>
            <a:ext cx="2648160" cy="5396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te_t_sarok"/>
          <p:cNvPicPr/>
          <p:nvPr/>
        </p:nvPicPr>
        <p:blipFill>
          <a:blip r:embed="rId2"/>
          <a:stretch/>
        </p:blipFill>
        <p:spPr>
          <a:xfrm>
            <a:off x="8215200" y="2987640"/>
            <a:ext cx="1690920" cy="16923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4"/>
          <p:cNvSpPr/>
          <p:nvPr/>
        </p:nvSpPr>
        <p:spPr>
          <a:xfrm>
            <a:off x="4182120" y="90360"/>
            <a:ext cx="154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Idegenforgalmi ad</a:t>
            </a:r>
            <a:r>
              <a:rPr b="0" lang="hu-HU" sz="1200" spc="-1" strike="noStrike">
                <a:solidFill>
                  <a:srgbClr val="ffffff"/>
                </a:solidFill>
                <a:latin typeface="Century Gothic"/>
              </a:rPr>
              <a:t>ó</a:t>
            </a: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203400" y="120960"/>
            <a:ext cx="3253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Idegenforgalmi ad</a:t>
            </a:r>
            <a:r>
              <a:rPr b="0" lang="hu-HU" sz="1200" spc="-1" strike="noStrike">
                <a:solidFill>
                  <a:srgbClr val="ffffff"/>
                </a:solidFill>
                <a:latin typeface="Century Gothic"/>
              </a:rPr>
              <a:t>ó</a:t>
            </a: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ffffff"/>
                </a:solidFill>
                <a:latin typeface="Century Gothic"/>
              </a:rPr>
              <a:t>Idegenforgalmi adó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72520" y="539280"/>
            <a:ext cx="891540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4d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Ingatlan(földkönyvi) nyilvántartás és onkado kapcsolat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28600" indent="-228600" algn="just">
              <a:lnSpc>
                <a:spcPct val="90000"/>
              </a:lnSpc>
              <a:buClr>
                <a:srgbClr val="00004d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Egerben összevetettük a két adatbázist és az alábbi érdekes megállapításokat vontuk le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8600" indent="-228600" algn="just">
              <a:lnSpc>
                <a:spcPct val="90000"/>
              </a:lnSpc>
              <a:buClr>
                <a:srgbClr val="00004d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 </a:t>
            </a:r>
            <a:r>
              <a:rPr b="0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cc.: 3500-4000 </a:t>
            </a:r>
            <a:r>
              <a:rPr b="0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hrsz javítás </a:t>
            </a:r>
            <a:r>
              <a:rPr b="0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(8-10% javításra került!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8600" indent="-228600" algn="just">
              <a:lnSpc>
                <a:spcPct val="90000"/>
              </a:lnSpc>
              <a:buClr>
                <a:srgbClr val="00004d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Figyelni kellett az </a:t>
            </a:r>
            <a:r>
              <a:rPr b="0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évközi megszűnések </a:t>
            </a:r>
            <a:r>
              <a:rPr b="0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kezelésére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8600" indent="-228600" algn="just">
              <a:lnSpc>
                <a:spcPct val="90000"/>
              </a:lnSpc>
              <a:buClr>
                <a:srgbClr val="00004d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A </a:t>
            </a:r>
            <a:r>
              <a:rPr b="0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Htv. hatálya alá nem tartozó adózókat </a:t>
            </a:r>
            <a:r>
              <a:rPr b="0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ki kellett belőle emelni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8600" indent="-228600" algn="just">
              <a:lnSpc>
                <a:spcPct val="90000"/>
              </a:lnSpc>
              <a:buClr>
                <a:srgbClr val="00004d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Földhivatali nyilvántartás hibái: életkor alapján jóval 100. év felettiek is  tulajdonosoknak vannak bejegyezve. Nem hiba, de az adózást nem segíti, hogy azt vezetnek át a járáshivatalnál, amit az ügyfél kér (funkció, fajta stb.)!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8600" indent="-228600" algn="just">
              <a:lnSpc>
                <a:spcPct val="90000"/>
              </a:lnSpc>
              <a:buClr>
                <a:srgbClr val="00004d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A </a:t>
            </a:r>
            <a:r>
              <a:rPr b="0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KEKKH-tól lakcím adatot kértünk </a:t>
            </a:r>
            <a:r>
              <a:rPr b="0" i="1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– ehhez kellettek a természetes azonosítók, ami nem minden esetben volt meg - </a:t>
            </a:r>
            <a:r>
              <a:rPr b="0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és a levél erre a címre ment ki, nem az ingatlan- nyilvántartásban lévő címre.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8600" indent="-228600" algn="just">
              <a:lnSpc>
                <a:spcPct val="90000"/>
              </a:lnSpc>
              <a:buClr>
                <a:srgbClr val="00004d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A felülellenőrzés során </a:t>
            </a:r>
            <a:r>
              <a:rPr b="0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2.400 levél </a:t>
            </a:r>
            <a:r>
              <a:rPr b="0" i="1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(tájékoztató, bevallás stb.) </a:t>
            </a:r>
            <a:r>
              <a:rPr b="0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készült azoknak, ahol maradt eltérés az adóztatott építményadó és földkönyv adatok alapján.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Kép 78" descr=""/>
          <p:cNvPicPr/>
          <p:nvPr/>
        </p:nvPicPr>
        <p:blipFill>
          <a:blip r:embed="rId1">
            <a:lum contrast="-18000"/>
          </a:blip>
          <a:srcRect l="0" t="-11174" r="59396" b="63504"/>
          <a:stretch/>
        </p:blipFill>
        <p:spPr>
          <a:xfrm>
            <a:off x="7257960" y="0"/>
            <a:ext cx="2648160" cy="5396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te_t_sarok"/>
          <p:cNvPicPr/>
          <p:nvPr/>
        </p:nvPicPr>
        <p:blipFill>
          <a:blip r:embed="rId2"/>
          <a:stretch/>
        </p:blipFill>
        <p:spPr>
          <a:xfrm>
            <a:off x="8215200" y="2987640"/>
            <a:ext cx="1690920" cy="1692360"/>
          </a:xfrm>
          <a:prstGeom prst="rect">
            <a:avLst/>
          </a:prstGeom>
          <a:ln w="0">
            <a:noFill/>
          </a:ln>
        </p:spPr>
      </p:pic>
      <p:sp>
        <p:nvSpPr>
          <p:cNvPr id="223" name="Téglalap 1"/>
          <p:cNvSpPr/>
          <p:nvPr/>
        </p:nvSpPr>
        <p:spPr>
          <a:xfrm>
            <a:off x="1281240" y="1692360"/>
            <a:ext cx="74880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urizmus: 2016. évben a trend változatlan Eger továbbra is dinamikusan fejlődő város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Kép 78" descr=""/>
          <p:cNvPicPr/>
          <p:nvPr/>
        </p:nvPicPr>
        <p:blipFill>
          <a:blip r:embed="rId1">
            <a:lum contrast="-18000"/>
          </a:blip>
          <a:srcRect l="0" t="-11174" r="59396" b="63504"/>
          <a:stretch/>
        </p:blipFill>
        <p:spPr>
          <a:xfrm>
            <a:off x="7257960" y="0"/>
            <a:ext cx="2648160" cy="5396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7" descr="te_t_sarok"/>
          <p:cNvPicPr/>
          <p:nvPr/>
        </p:nvPicPr>
        <p:blipFill>
          <a:blip r:embed="rId2"/>
          <a:stretch/>
        </p:blipFill>
        <p:spPr>
          <a:xfrm>
            <a:off x="8215200" y="2987640"/>
            <a:ext cx="1690920" cy="1692360"/>
          </a:xfrm>
          <a:prstGeom prst="rect">
            <a:avLst/>
          </a:prstGeom>
          <a:ln w="0">
            <a:noFill/>
          </a:ln>
        </p:spPr>
      </p:pic>
      <p:sp>
        <p:nvSpPr>
          <p:cNvPr id="226" name="Téglalap 1"/>
          <p:cNvSpPr/>
          <p:nvPr/>
        </p:nvSpPr>
        <p:spPr>
          <a:xfrm>
            <a:off x="560520" y="539640"/>
            <a:ext cx="8640720" cy="32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4d"/>
                </a:solidFill>
                <a:latin typeface="Times New Roman"/>
                <a:ea typeface="Calibri"/>
              </a:rPr>
              <a:t>Az idén </a:t>
            </a:r>
            <a:r>
              <a:rPr b="1" lang="hu-HU" sz="1600" spc="-1" strike="noStrike">
                <a:solidFill>
                  <a:srgbClr val="00004d"/>
                </a:solidFill>
                <a:latin typeface="Times New Roman"/>
                <a:ea typeface="Calibri"/>
              </a:rPr>
              <a:t>közel 7%  százalékkal emelkedett</a:t>
            </a:r>
            <a:r>
              <a:rPr b="0" lang="hu-HU" sz="1600" spc="-1" strike="noStrike">
                <a:solidFill>
                  <a:srgbClr val="00004d"/>
                </a:solidFill>
                <a:latin typeface="Times New Roman"/>
                <a:ea typeface="Calibri"/>
              </a:rPr>
              <a:t> a megyeszékhelyünkre látógató turisták száma az elmúlt nyolc hónap </a:t>
            </a:r>
            <a:r>
              <a:rPr b="0" i="1" lang="hu-HU" sz="1600" spc="-1" strike="noStrike">
                <a:solidFill>
                  <a:srgbClr val="00004d"/>
                </a:solidFill>
                <a:latin typeface="Times New Roman"/>
                <a:ea typeface="Calibri"/>
              </a:rPr>
              <a:t>(január-augusztus)</a:t>
            </a:r>
            <a:r>
              <a:rPr b="0" lang="hu-HU" sz="1600" spc="-1" strike="noStrike">
                <a:solidFill>
                  <a:srgbClr val="00004d"/>
                </a:solidFill>
                <a:latin typeface="Times New Roman"/>
                <a:ea typeface="Calibri"/>
              </a:rPr>
              <a:t> idegenforgalmi adóbevallási adatainak elemzése alapján.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4d"/>
                </a:solidFill>
                <a:latin typeface="Times New Roman"/>
                <a:ea typeface="Calibri"/>
              </a:rPr>
              <a:t>A bevallási adatok összesített adatai alapján </a:t>
            </a:r>
            <a:r>
              <a:rPr b="1" lang="hu-HU" sz="1600" spc="-1" strike="noStrike">
                <a:solidFill>
                  <a:srgbClr val="00004d"/>
                </a:solidFill>
                <a:latin typeface="Times New Roman"/>
                <a:ea typeface="Calibri"/>
              </a:rPr>
              <a:t>több, mint 428 ezer vendégéjszakát</a:t>
            </a:r>
            <a:r>
              <a:rPr b="0" lang="hu-HU" sz="1600" spc="-1" strike="noStrike">
                <a:solidFill>
                  <a:srgbClr val="00004d"/>
                </a:solidFill>
                <a:latin typeface="Times New Roman"/>
                <a:ea typeface="Calibri"/>
              </a:rPr>
              <a:t> töltöttek Egerben a vendégek. Az előző 2015. év hasonló időszakához képest, több mint </a:t>
            </a:r>
            <a:r>
              <a:rPr b="1" lang="hu-HU" sz="1600" spc="-1" strike="noStrike">
                <a:solidFill>
                  <a:srgbClr val="00004d"/>
                </a:solidFill>
                <a:latin typeface="Times New Roman"/>
                <a:ea typeface="Calibri"/>
              </a:rPr>
              <a:t>27 ezer vendégéjszakával emelkedtek</a:t>
            </a:r>
            <a:r>
              <a:rPr b="0" lang="hu-HU" sz="1600" spc="-1" strike="noStrike">
                <a:solidFill>
                  <a:srgbClr val="00004d"/>
                </a:solidFill>
                <a:latin typeface="Times New Roman"/>
                <a:ea typeface="Calibri"/>
              </a:rPr>
              <a:t> az itt eltöltött és bevallott vendégéjszakák száma. Ez az előző évhez képest </a:t>
            </a:r>
            <a:r>
              <a:rPr b="1" lang="hu-HU" sz="1600" spc="-1" strike="noStrike">
                <a:solidFill>
                  <a:srgbClr val="00004d"/>
                </a:solidFill>
                <a:latin typeface="Times New Roman"/>
                <a:ea typeface="Calibri"/>
              </a:rPr>
              <a:t>6,7%-os növekedést</a:t>
            </a:r>
            <a:r>
              <a:rPr b="0" lang="hu-HU" sz="1600" spc="-1" strike="noStrike">
                <a:solidFill>
                  <a:srgbClr val="00004d"/>
                </a:solidFill>
                <a:latin typeface="Times New Roman"/>
                <a:ea typeface="Calibri"/>
              </a:rPr>
              <a:t> jelent. </a:t>
            </a:r>
            <a:r>
              <a:rPr b="0" i="1" lang="hu-HU" sz="1600" spc="-1" strike="noStrike">
                <a:solidFill>
                  <a:srgbClr val="00004d"/>
                </a:solidFill>
                <a:latin typeface="Times New Roman"/>
                <a:ea typeface="Calibri"/>
              </a:rPr>
              <a:t>(2014. évi adatokhoz képest a növekedés 26,1%.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4d"/>
                </a:solidFill>
                <a:latin typeface="Times New Roman"/>
                <a:ea typeface="Calibri"/>
              </a:rPr>
              <a:t>Az </a:t>
            </a:r>
            <a:r>
              <a:rPr b="1" lang="hu-HU" sz="1600" spc="-1" strike="noStrike">
                <a:solidFill>
                  <a:srgbClr val="00004d"/>
                </a:solidFill>
                <a:latin typeface="Times New Roman"/>
                <a:ea typeface="Calibri"/>
              </a:rPr>
              <a:t>adóköteles vendégéjszakák</a:t>
            </a:r>
            <a:r>
              <a:rPr b="0" lang="hu-HU" sz="1600" spc="-1" strike="noStrike">
                <a:solidFill>
                  <a:srgbClr val="00004d"/>
                </a:solidFill>
                <a:latin typeface="Times New Roman"/>
                <a:ea typeface="Calibri"/>
              </a:rPr>
              <a:t> száma még nagyobb arányban emelkedett, hiszen itt a százalékos változás aránya </a:t>
            </a:r>
            <a:r>
              <a:rPr b="1" lang="hu-HU" sz="1600" spc="-1" strike="noStrike">
                <a:solidFill>
                  <a:srgbClr val="00004d"/>
                </a:solidFill>
                <a:latin typeface="Times New Roman"/>
                <a:ea typeface="Calibri"/>
              </a:rPr>
              <a:t>8,9%.</a:t>
            </a:r>
            <a:r>
              <a:rPr b="0" lang="hu-HU" sz="1600" spc="-1" strike="noStrike">
                <a:solidFill>
                  <a:srgbClr val="00004d"/>
                </a:solidFill>
                <a:latin typeface="Times New Roman"/>
                <a:ea typeface="Calibri"/>
              </a:rPr>
              <a:t> </a:t>
            </a:r>
            <a:r>
              <a:rPr b="0" i="1" lang="hu-HU" sz="1600" spc="-1" strike="noStrike">
                <a:solidFill>
                  <a:srgbClr val="00004d"/>
                </a:solidFill>
                <a:latin typeface="Times New Roman"/>
                <a:ea typeface="Calibri"/>
              </a:rPr>
              <a:t>(2014. évi adatokhoz képest a növekedés 27%.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4d"/>
                </a:solidFill>
                <a:latin typeface="Times New Roman"/>
                <a:ea typeface="Calibri"/>
              </a:rPr>
              <a:t>A hevesi megyeszékhelyen a vendégéjszakák </a:t>
            </a:r>
            <a:r>
              <a:rPr b="1" lang="hu-HU" sz="1600" spc="-1" strike="noStrike">
                <a:solidFill>
                  <a:srgbClr val="00004d"/>
                </a:solidFill>
                <a:latin typeface="Times New Roman"/>
                <a:ea typeface="Calibri"/>
              </a:rPr>
              <a:t>54,6%-át szállodákban töltötték </a:t>
            </a:r>
            <a:r>
              <a:rPr b="0" lang="hu-HU" sz="1600" spc="-1" strike="noStrike">
                <a:solidFill>
                  <a:srgbClr val="00004d"/>
                </a:solidFill>
                <a:latin typeface="Times New Roman"/>
                <a:ea typeface="Calibri"/>
              </a:rPr>
              <a:t>a vendégek. </a:t>
            </a:r>
            <a:r>
              <a:rPr b="1" lang="hu-HU" sz="1600" spc="-1" strike="noStrike">
                <a:solidFill>
                  <a:srgbClr val="00004d"/>
                </a:solidFill>
                <a:latin typeface="Times New Roman"/>
                <a:ea typeface="Calibri"/>
              </a:rPr>
              <a:t>Egyéb szálláshelyeken (fizetővendég szálláshelyek) a vendégéjszakák 23,7%-át,</a:t>
            </a:r>
            <a:r>
              <a:rPr b="0" lang="hu-HU" sz="1600" spc="-1" strike="noStrike">
                <a:solidFill>
                  <a:srgbClr val="00004d"/>
                </a:solidFill>
                <a:latin typeface="Times New Roman"/>
                <a:ea typeface="Calibri"/>
              </a:rPr>
              <a:t> közösségi szálláshelyek 14,5%-át, panziókban 5,4%-át töltötték. A múlt évi adatokhoz képest </a:t>
            </a:r>
            <a:r>
              <a:rPr b="1" lang="hu-HU" sz="1600" spc="-1" strike="noStrike">
                <a:solidFill>
                  <a:srgbClr val="00004d"/>
                </a:solidFill>
                <a:latin typeface="Times New Roman"/>
                <a:ea typeface="Calibri"/>
              </a:rPr>
              <a:t>2%-kal emelkedett az egyéb szálláshelyeken </a:t>
            </a:r>
            <a:r>
              <a:rPr b="0" lang="hu-HU" sz="1600" spc="-1" strike="noStrike">
                <a:solidFill>
                  <a:srgbClr val="00004d"/>
                </a:solidFill>
                <a:latin typeface="Times New Roman"/>
                <a:ea typeface="Calibri"/>
              </a:rPr>
              <a:t>eltöltött vendégéjszakák számaránya.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Kép 78" descr=""/>
          <p:cNvPicPr/>
          <p:nvPr/>
        </p:nvPicPr>
        <p:blipFill>
          <a:blip r:embed="rId1">
            <a:lum contrast="-18000"/>
          </a:blip>
          <a:srcRect l="0" t="-11174" r="59396" b="63504"/>
          <a:stretch/>
        </p:blipFill>
        <p:spPr>
          <a:xfrm>
            <a:off x="7257960" y="0"/>
            <a:ext cx="2648160" cy="539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te_t_sarok"/>
          <p:cNvPicPr/>
          <p:nvPr/>
        </p:nvPicPr>
        <p:blipFill>
          <a:blip r:embed="rId2"/>
          <a:stretch/>
        </p:blipFill>
        <p:spPr>
          <a:xfrm>
            <a:off x="8553600" y="3325680"/>
            <a:ext cx="1352520" cy="1354320"/>
          </a:xfrm>
          <a:prstGeom prst="rect">
            <a:avLst/>
          </a:prstGeom>
          <a:ln w="0">
            <a:noFill/>
          </a:ln>
        </p:spPr>
      </p:pic>
      <p:pic>
        <p:nvPicPr>
          <p:cNvPr id="229" name="Kép 1" descr=""/>
          <p:cNvPicPr/>
          <p:nvPr/>
        </p:nvPicPr>
        <p:blipFill>
          <a:blip r:embed="rId3"/>
          <a:stretch/>
        </p:blipFill>
        <p:spPr>
          <a:xfrm>
            <a:off x="488880" y="743040"/>
            <a:ext cx="5219640" cy="242100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2"/>
          <p:cNvSpPr/>
          <p:nvPr/>
        </p:nvSpPr>
        <p:spPr>
          <a:xfrm>
            <a:off x="6764400" y="743040"/>
            <a:ext cx="73026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31" name="Picture 1" descr=""/>
          <p:cNvPicPr/>
          <p:nvPr/>
        </p:nvPicPr>
        <p:blipFill>
          <a:blip r:embed="rId4"/>
          <a:stretch/>
        </p:blipFill>
        <p:spPr>
          <a:xfrm>
            <a:off x="4624560" y="1679400"/>
            <a:ext cx="4620960" cy="232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Kép 78" descr=""/>
          <p:cNvPicPr/>
          <p:nvPr/>
        </p:nvPicPr>
        <p:blipFill>
          <a:blip r:embed="rId1">
            <a:lum contrast="-18000"/>
          </a:blip>
          <a:srcRect l="0" t="-11174" r="59396" b="63504"/>
          <a:stretch/>
        </p:blipFill>
        <p:spPr>
          <a:xfrm>
            <a:off x="7257960" y="0"/>
            <a:ext cx="2648160" cy="5396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te_t_sarok"/>
          <p:cNvPicPr/>
          <p:nvPr/>
        </p:nvPicPr>
        <p:blipFill>
          <a:blip r:embed="rId2"/>
          <a:stretch/>
        </p:blipFill>
        <p:spPr>
          <a:xfrm>
            <a:off x="8215200" y="2987640"/>
            <a:ext cx="1690920" cy="1692360"/>
          </a:xfrm>
          <a:prstGeom prst="rect">
            <a:avLst/>
          </a:prstGeom>
          <a:ln w="0">
            <a:noFill/>
          </a:ln>
        </p:spPr>
      </p:pic>
      <p:pic>
        <p:nvPicPr>
          <p:cNvPr id="234" name="Kép 1" descr=""/>
          <p:cNvPicPr/>
          <p:nvPr/>
        </p:nvPicPr>
        <p:blipFill>
          <a:blip r:embed="rId3"/>
          <a:stretch/>
        </p:blipFill>
        <p:spPr>
          <a:xfrm>
            <a:off x="200160" y="395280"/>
            <a:ext cx="7489800" cy="420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Kép 78" descr=""/>
          <p:cNvPicPr/>
          <p:nvPr/>
        </p:nvPicPr>
        <p:blipFill>
          <a:blip r:embed="rId1">
            <a:lum contrast="-18000"/>
          </a:blip>
          <a:srcRect l="0" t="-11174" r="59396" b="63504"/>
          <a:stretch/>
        </p:blipFill>
        <p:spPr>
          <a:xfrm>
            <a:off x="7257960" y="0"/>
            <a:ext cx="2648160" cy="5396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te_t_sarok"/>
          <p:cNvPicPr/>
          <p:nvPr/>
        </p:nvPicPr>
        <p:blipFill>
          <a:blip r:embed="rId2"/>
          <a:stretch/>
        </p:blipFill>
        <p:spPr>
          <a:xfrm>
            <a:off x="8215200" y="2987640"/>
            <a:ext cx="1690920" cy="169236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2"/>
          <p:cNvSpPr/>
          <p:nvPr/>
        </p:nvSpPr>
        <p:spPr>
          <a:xfrm>
            <a:off x="415800" y="5716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38" name="Picture 1" descr=""/>
          <p:cNvPicPr/>
          <p:nvPr/>
        </p:nvPicPr>
        <p:blipFill>
          <a:blip r:embed="rId3"/>
          <a:stretch/>
        </p:blipFill>
        <p:spPr>
          <a:xfrm>
            <a:off x="415800" y="395280"/>
            <a:ext cx="3168720" cy="212580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4"/>
          <p:cNvSpPr/>
          <p:nvPr/>
        </p:nvSpPr>
        <p:spPr>
          <a:xfrm>
            <a:off x="4737240" y="133200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40" name="Picture 3" descr=""/>
          <p:cNvPicPr/>
          <p:nvPr/>
        </p:nvPicPr>
        <p:blipFill>
          <a:blip r:embed="rId4"/>
          <a:stretch/>
        </p:blipFill>
        <p:spPr>
          <a:xfrm>
            <a:off x="5121360" y="442800"/>
            <a:ext cx="4108320" cy="274968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6"/>
          <p:cNvSpPr/>
          <p:nvPr/>
        </p:nvSpPr>
        <p:spPr>
          <a:xfrm flipV="1">
            <a:off x="3873600" y="1949040"/>
            <a:ext cx="787248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42" name="Picture 5" descr=""/>
          <p:cNvPicPr/>
          <p:nvPr/>
        </p:nvPicPr>
        <p:blipFill>
          <a:blip r:embed="rId5"/>
          <a:stretch/>
        </p:blipFill>
        <p:spPr>
          <a:xfrm>
            <a:off x="2490840" y="2535120"/>
            <a:ext cx="3038400" cy="212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Kép 78" descr=""/>
          <p:cNvPicPr/>
          <p:nvPr/>
        </p:nvPicPr>
        <p:blipFill>
          <a:blip r:embed="rId1">
            <a:lum contrast="-18000"/>
          </a:blip>
          <a:srcRect l="0" t="-11174" r="59396" b="63504"/>
          <a:stretch/>
        </p:blipFill>
        <p:spPr>
          <a:xfrm>
            <a:off x="7257960" y="0"/>
            <a:ext cx="2648160" cy="5396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te_t_sarok"/>
          <p:cNvPicPr/>
          <p:nvPr/>
        </p:nvPicPr>
        <p:blipFill>
          <a:blip r:embed="rId2"/>
          <a:stretch/>
        </p:blipFill>
        <p:spPr>
          <a:xfrm>
            <a:off x="8193240" y="2965320"/>
            <a:ext cx="1712880" cy="1714680"/>
          </a:xfrm>
          <a:prstGeom prst="rect">
            <a:avLst/>
          </a:prstGeom>
          <a:ln w="0">
            <a:noFill/>
          </a:ln>
        </p:spPr>
      </p:pic>
      <p:pic>
        <p:nvPicPr>
          <p:cNvPr id="245" name="Kép 4" descr=""/>
          <p:cNvPicPr/>
          <p:nvPr/>
        </p:nvPicPr>
        <p:blipFill>
          <a:blip r:embed="rId3"/>
          <a:stretch/>
        </p:blipFill>
        <p:spPr>
          <a:xfrm>
            <a:off x="1352520" y="611280"/>
            <a:ext cx="6553080" cy="37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Kép 78" descr=""/>
          <p:cNvPicPr/>
          <p:nvPr/>
        </p:nvPicPr>
        <p:blipFill>
          <a:blip r:embed="rId1">
            <a:lum contrast="-18000"/>
          </a:blip>
          <a:srcRect l="0" t="-11174" r="59396" b="63504"/>
          <a:stretch/>
        </p:blipFill>
        <p:spPr>
          <a:xfrm>
            <a:off x="7257960" y="0"/>
            <a:ext cx="2648160" cy="539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te_t_sarok"/>
          <p:cNvPicPr/>
          <p:nvPr/>
        </p:nvPicPr>
        <p:blipFill>
          <a:blip r:embed="rId2"/>
          <a:stretch/>
        </p:blipFill>
        <p:spPr>
          <a:xfrm>
            <a:off x="8215200" y="2987640"/>
            <a:ext cx="1690920" cy="16923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4"/>
          <p:cNvSpPr/>
          <p:nvPr/>
        </p:nvSpPr>
        <p:spPr>
          <a:xfrm>
            <a:off x="4182120" y="90360"/>
            <a:ext cx="154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Idegenforgalmi ad</a:t>
            </a:r>
            <a:r>
              <a:rPr b="0" lang="hu-HU" sz="1200" spc="-1" strike="noStrike">
                <a:solidFill>
                  <a:srgbClr val="ffffff"/>
                </a:solidFill>
                <a:latin typeface="Century Gothic"/>
              </a:rPr>
              <a:t>ó</a:t>
            </a: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203400" y="120960"/>
            <a:ext cx="3253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Idegenforgalmi ad</a:t>
            </a:r>
            <a:r>
              <a:rPr b="0" lang="hu-HU" sz="1200" spc="-1" strike="noStrike">
                <a:solidFill>
                  <a:srgbClr val="ffffff"/>
                </a:solidFill>
                <a:latin typeface="Century Gothic"/>
              </a:rPr>
              <a:t>ó</a:t>
            </a: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ffffff"/>
                </a:solidFill>
                <a:latin typeface="Century Gothic"/>
              </a:rPr>
              <a:t>Idegenforgalmi adó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72520" y="539280"/>
            <a:ext cx="891540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4d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Alapelvek és fő szempontok </a:t>
            </a:r>
            <a:r>
              <a:rPr b="0" lang="hu-HU" sz="24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Eger Megyei Jogú Városban az önkormányzati adóeljárásokba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28560" indent="-228600" algn="just">
              <a:lnSpc>
                <a:spcPct val="90000"/>
              </a:lnSpc>
              <a:spcBef>
                <a:spcPts val="1001"/>
              </a:spcBef>
              <a:buClr>
                <a:srgbClr val="0000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Adminisztráció csökkentése, </a:t>
            </a:r>
            <a:r>
              <a:rPr b="0" lang="hu-HU" sz="24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adókötelezettségek teljesítésének megkönnyítése</a:t>
            </a:r>
            <a:r>
              <a:rPr b="0" lang="hu-HU" sz="24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28880" indent="-228600" algn="just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(e-ügyintézés, adóhatóság szakmai támogatása (NAV és már az új szab. önk adóhat is) stb.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628560" indent="-228600" algn="just">
              <a:lnSpc>
                <a:spcPct val="90000"/>
              </a:lnSpc>
              <a:spcBef>
                <a:spcPts val="1001"/>
              </a:spcBef>
              <a:buClr>
                <a:srgbClr val="0000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 </a:t>
            </a:r>
            <a:r>
              <a:rPr b="0" lang="hu-HU" sz="24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Az önkormányzati adóhatóság </a:t>
            </a:r>
            <a:r>
              <a:rPr b="0" lang="hu-HU" sz="24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rendelkezésére álló információk</a:t>
            </a:r>
            <a:r>
              <a:rPr b="0" lang="hu-HU" sz="24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, adatok </a:t>
            </a:r>
            <a:r>
              <a:rPr b="0" lang="hu-HU" sz="24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hatékonyabb felhasználása</a:t>
            </a:r>
            <a:r>
              <a:rPr b="0" lang="hu-HU" sz="24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28880" indent="-228600" algn="just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(a hét ellenőrzési fajta helyet az Art. tervezet kettőt nevesít, szűkítve az ellenőrzésre rendelkezésre álló határidőket és bevezeti a támogató eljárást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Kép 78" descr=""/>
          <p:cNvPicPr/>
          <p:nvPr/>
        </p:nvPicPr>
        <p:blipFill>
          <a:blip r:embed="rId1">
            <a:lum contrast="-18000"/>
          </a:blip>
          <a:srcRect l="0" t="-11174" r="59396" b="63504"/>
          <a:stretch/>
        </p:blipFill>
        <p:spPr>
          <a:xfrm>
            <a:off x="7257960" y="0"/>
            <a:ext cx="2648160" cy="5396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te_t_sarok"/>
          <p:cNvPicPr/>
          <p:nvPr/>
        </p:nvPicPr>
        <p:blipFill>
          <a:blip r:embed="rId2"/>
          <a:stretch/>
        </p:blipFill>
        <p:spPr>
          <a:xfrm>
            <a:off x="8265960" y="3036960"/>
            <a:ext cx="1640160" cy="1643040"/>
          </a:xfrm>
          <a:prstGeom prst="rect">
            <a:avLst/>
          </a:prstGeom>
          <a:ln w="0">
            <a:noFill/>
          </a:ln>
        </p:spPr>
      </p:pic>
      <p:pic>
        <p:nvPicPr>
          <p:cNvPr id="248" name="Kép 4" descr=""/>
          <p:cNvPicPr/>
          <p:nvPr/>
        </p:nvPicPr>
        <p:blipFill>
          <a:blip r:embed="rId3"/>
          <a:stretch/>
        </p:blipFill>
        <p:spPr>
          <a:xfrm>
            <a:off x="1857240" y="539640"/>
            <a:ext cx="662472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Kép 78" descr=""/>
          <p:cNvPicPr/>
          <p:nvPr/>
        </p:nvPicPr>
        <p:blipFill>
          <a:blip r:embed="rId1">
            <a:lum contrast="-18000"/>
          </a:blip>
          <a:srcRect l="0" t="-11174" r="59396" b="63504"/>
          <a:stretch/>
        </p:blipFill>
        <p:spPr>
          <a:xfrm>
            <a:off x="7257960" y="0"/>
            <a:ext cx="2648160" cy="5396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7" descr="te_t_sarok"/>
          <p:cNvPicPr/>
          <p:nvPr/>
        </p:nvPicPr>
        <p:blipFill>
          <a:blip r:embed="rId2"/>
          <a:stretch/>
        </p:blipFill>
        <p:spPr>
          <a:xfrm>
            <a:off x="8215200" y="2987640"/>
            <a:ext cx="1690920" cy="1692360"/>
          </a:xfrm>
          <a:prstGeom prst="rect">
            <a:avLst/>
          </a:prstGeom>
          <a:ln w="0">
            <a:noFill/>
          </a:ln>
        </p:spPr>
      </p:pic>
      <p:pic>
        <p:nvPicPr>
          <p:cNvPr id="251" name="Kép 5" descr=""/>
          <p:cNvPicPr/>
          <p:nvPr/>
        </p:nvPicPr>
        <p:blipFill>
          <a:blip r:embed="rId3"/>
          <a:stretch/>
        </p:blipFill>
        <p:spPr>
          <a:xfrm>
            <a:off x="2216160" y="684360"/>
            <a:ext cx="6006960" cy="36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Kép 78" descr=""/>
          <p:cNvPicPr/>
          <p:nvPr/>
        </p:nvPicPr>
        <p:blipFill>
          <a:blip r:embed="rId1">
            <a:lum contrast="-18000"/>
          </a:blip>
          <a:srcRect l="0" t="-11174" r="59396" b="63504"/>
          <a:stretch/>
        </p:blipFill>
        <p:spPr>
          <a:xfrm>
            <a:off x="7257960" y="0"/>
            <a:ext cx="2648160" cy="5396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te_t_sarok"/>
          <p:cNvPicPr/>
          <p:nvPr/>
        </p:nvPicPr>
        <p:blipFill>
          <a:blip r:embed="rId2"/>
          <a:stretch/>
        </p:blipFill>
        <p:spPr>
          <a:xfrm>
            <a:off x="8215200" y="2987640"/>
            <a:ext cx="1690920" cy="169236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4"/>
          <p:cNvSpPr/>
          <p:nvPr/>
        </p:nvSpPr>
        <p:spPr>
          <a:xfrm>
            <a:off x="4182120" y="90360"/>
            <a:ext cx="154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Idegenforgalmi ad</a:t>
            </a:r>
            <a:r>
              <a:rPr b="0" lang="hu-HU" sz="1200" spc="-1" strike="noStrike">
                <a:solidFill>
                  <a:srgbClr val="ffffff"/>
                </a:solidFill>
                <a:latin typeface="Century Gothic"/>
              </a:rPr>
              <a:t>ó</a:t>
            </a: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203400" y="120960"/>
            <a:ext cx="3253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Idegenforgalmi ad</a:t>
            </a:r>
            <a:r>
              <a:rPr b="0" lang="hu-HU" sz="1200" spc="-1" strike="noStrike">
                <a:solidFill>
                  <a:srgbClr val="ffffff"/>
                </a:solidFill>
                <a:latin typeface="Century Gothic"/>
              </a:rPr>
              <a:t>ó</a:t>
            </a: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ffffff"/>
                </a:solidFill>
                <a:latin typeface="Century Gothic"/>
              </a:rPr>
              <a:t>Idegenforgalmi adó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272520" y="539280"/>
            <a:ext cx="891540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Adófizetésről szóló tájékoztatók, közigazgatási döntések</a:t>
            </a:r>
            <a:r>
              <a:rPr b="0" lang="hu-HU" sz="2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Art. 43. (8) bek. Ha az adószámla </a:t>
            </a:r>
            <a:r>
              <a:rPr b="0" lang="hu-HU" sz="24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2000 forintot </a:t>
            </a:r>
            <a:r>
              <a:rPr b="0" lang="hu-HU" sz="24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meghaladó összegű </a:t>
            </a:r>
            <a:r>
              <a:rPr b="0" lang="hu-HU" sz="24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tartozást vagy túlfizetést </a:t>
            </a:r>
            <a:r>
              <a:rPr b="0" lang="hu-HU" sz="24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mutat, az adóhatóság az adózó adószámlájának egyenlegéről október 31-ig </a:t>
            </a:r>
            <a:r>
              <a:rPr b="0" lang="hu-HU" sz="24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értesítést ad ki </a:t>
            </a:r>
            <a:r>
              <a:rPr b="0" i="1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(pl.: EPDB Nyomtatási Központ Zrt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Az jár el helyesen aki március 15-e és szeptember 15-e a fizetési határidő előtt a </a:t>
            </a:r>
            <a:r>
              <a:rPr b="0" lang="hu-HU" sz="24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tartozással, vagy követeléssel rendelkezőknek </a:t>
            </a:r>
            <a:r>
              <a:rPr b="0" lang="hu-HU" sz="24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adószámla egyenleget és szükség esetén csekket </a:t>
            </a:r>
            <a:r>
              <a:rPr b="0" i="1" lang="hu-HU" sz="20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(pl.: QR kódos iCsekk alkalmazás)</a:t>
            </a:r>
            <a:r>
              <a:rPr b="0" lang="hu-HU" sz="24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 is kibocsá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Kép 78" descr=""/>
          <p:cNvPicPr/>
          <p:nvPr/>
        </p:nvPicPr>
        <p:blipFill>
          <a:blip r:embed="rId1">
            <a:lum contrast="-18000"/>
          </a:blip>
          <a:srcRect l="0" t="-11174" r="59396" b="63504"/>
          <a:stretch/>
        </p:blipFill>
        <p:spPr>
          <a:xfrm>
            <a:off x="7257960" y="0"/>
            <a:ext cx="2648160" cy="5396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te_t_sarok"/>
          <p:cNvPicPr/>
          <p:nvPr/>
        </p:nvPicPr>
        <p:blipFill>
          <a:blip r:embed="rId2"/>
          <a:stretch/>
        </p:blipFill>
        <p:spPr>
          <a:xfrm>
            <a:off x="8215200" y="2987640"/>
            <a:ext cx="1690920" cy="169236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4"/>
          <p:cNvSpPr/>
          <p:nvPr/>
        </p:nvSpPr>
        <p:spPr>
          <a:xfrm>
            <a:off x="4182120" y="90360"/>
            <a:ext cx="154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Idegenforgalmi ad</a:t>
            </a:r>
            <a:r>
              <a:rPr b="0" lang="hu-HU" sz="1200" spc="-1" strike="noStrike">
                <a:solidFill>
                  <a:srgbClr val="ffffff"/>
                </a:solidFill>
                <a:latin typeface="Century Gothic"/>
              </a:rPr>
              <a:t>ó</a:t>
            </a: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203400" y="120960"/>
            <a:ext cx="3253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Idegenforgalmi ad</a:t>
            </a:r>
            <a:r>
              <a:rPr b="0" lang="hu-HU" sz="1200" spc="-1" strike="noStrike">
                <a:solidFill>
                  <a:srgbClr val="ffffff"/>
                </a:solidFill>
                <a:latin typeface="Century Gothic"/>
              </a:rPr>
              <a:t>ó</a:t>
            </a: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ffffff"/>
                </a:solidFill>
                <a:latin typeface="Century Gothic"/>
              </a:rPr>
              <a:t>Idegenforgalmi adó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272520" y="539280"/>
            <a:ext cx="891540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Adófizetésről szóló tájékoztatók, közigazgatási döntések </a:t>
            </a:r>
            <a:r>
              <a:rPr b="0" lang="hu-HU" sz="2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Hasonló a helyzet a követeléskezelési és végrehajtási eljárások során is, hiszen itt ún. „</a:t>
            </a:r>
            <a:r>
              <a:rPr b="0" lang="hu-HU" sz="22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Fizetési értesítőkkel”</a:t>
            </a:r>
            <a:r>
              <a:rPr b="0" lang="hu-HU" sz="22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 célszerű és ügyfélbarát </a:t>
            </a:r>
            <a:r>
              <a:rPr b="0" lang="hu-HU" sz="22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megadni </a:t>
            </a:r>
            <a:r>
              <a:rPr b="0" lang="hu-HU" sz="22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a végrehajtási eljárás elindítása előtt </a:t>
            </a:r>
            <a:r>
              <a:rPr b="0" lang="hu-HU" sz="22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az önkéntes fizetés lehetőségét, vagy a fizetési könnyítés igénybevételét</a:t>
            </a:r>
            <a:r>
              <a:rPr b="0" lang="hu-HU" sz="22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!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4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(Új szabály: A vállalkozási tevékenységet nem folytató, általános forgalmi adó fizetésére nem kötelezett magánszemély kérelmére az adóhatóság az általa nyilvántartott, legfeljebb 200 000 forint összegű adótartozásra - kivéve IFA - évente egy alkalommal legfeljebb 6 havi pótlékmentes részletfizetést engedélyez. Ekkor a fizetési nehézség okait, körülményeit nem kell vizsgálni. Célszerű - a kérelem benyújtására - új kérelem űrlapot rendszeresíteni.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buClr>
                <a:srgbClr val="2f5597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Kép 78" descr=""/>
          <p:cNvPicPr/>
          <p:nvPr/>
        </p:nvPicPr>
        <p:blipFill>
          <a:blip r:embed="rId1">
            <a:lum contrast="-18000"/>
          </a:blip>
          <a:srcRect l="0" t="-11174" r="59396" b="63504"/>
          <a:stretch/>
        </p:blipFill>
        <p:spPr>
          <a:xfrm>
            <a:off x="7257960" y="0"/>
            <a:ext cx="2648160" cy="5396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7" descr="te_t_sarok"/>
          <p:cNvPicPr/>
          <p:nvPr/>
        </p:nvPicPr>
        <p:blipFill>
          <a:blip r:embed="rId2"/>
          <a:stretch/>
        </p:blipFill>
        <p:spPr>
          <a:xfrm>
            <a:off x="8215200" y="2987640"/>
            <a:ext cx="1690920" cy="169236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4"/>
          <p:cNvSpPr/>
          <p:nvPr/>
        </p:nvSpPr>
        <p:spPr>
          <a:xfrm>
            <a:off x="4182120" y="90360"/>
            <a:ext cx="154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Idegenforgalmi ad</a:t>
            </a:r>
            <a:r>
              <a:rPr b="0" lang="hu-HU" sz="1200" spc="-1" strike="noStrike">
                <a:solidFill>
                  <a:srgbClr val="ffffff"/>
                </a:solidFill>
                <a:latin typeface="Century Gothic"/>
              </a:rPr>
              <a:t>ó</a:t>
            </a: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Rectangle 5"/>
          <p:cNvSpPr/>
          <p:nvPr/>
        </p:nvSpPr>
        <p:spPr>
          <a:xfrm>
            <a:off x="203400" y="120960"/>
            <a:ext cx="3253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Idegenforgalmi ad</a:t>
            </a:r>
            <a:r>
              <a:rPr b="0" lang="hu-HU" sz="1200" spc="-1" strike="noStrike">
                <a:solidFill>
                  <a:srgbClr val="ffffff"/>
                </a:solidFill>
                <a:latin typeface="Century Gothic"/>
              </a:rPr>
              <a:t>ó</a:t>
            </a: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ffffff"/>
                </a:solidFill>
                <a:latin typeface="Century Gothic"/>
              </a:rPr>
              <a:t>Idegenforgalmi adó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272520" y="539280"/>
            <a:ext cx="891540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Adómérséklés</a:t>
            </a:r>
            <a:r>
              <a:rPr b="0" lang="hu-HU" sz="2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Az adóhatóság a magánszemély kérelme alapján az őt terhelő adótartozást, valamint a bírság- vagy pótléktartozást mérsékelheti vagy elengedheti, ha azok megfizetése megélhetést súlyosan veszélyeztetik. </a:t>
            </a:r>
            <a:r>
              <a:rPr b="0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Kifejezetten hatékony ha az adóhatóság a mérséklést </a:t>
            </a:r>
            <a:r>
              <a:rPr b="0" i="1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(pl.: pótlék, bírság) </a:t>
            </a:r>
            <a:r>
              <a:rPr b="0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az adótartozás egy részének megfizetéséhez kötheti. (MSZ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Az adóhatóság a pótlék- és bírságtartozást kivételes méltányosságból mérsékelheti (elengedheti) különösen akkor, ha annak megfizetése a vállalkozási tevékenységet folytató magánszemély, jogi személy vagy egyéb szervezet gazdálkodási tevékenységét ellehetetlenítené. </a:t>
            </a:r>
            <a:r>
              <a:rPr b="0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Különösen adóellenőrzést követően, vagy késedelmes bevallás benyújtás esetén felszámított mulasztási bírságot</a:t>
            </a:r>
            <a:r>
              <a:rPr b="0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, illetve azok egy részét lehet </a:t>
            </a:r>
            <a:r>
              <a:rPr b="0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a mérsékelt szankciók és az adótartozás egy részének </a:t>
            </a:r>
            <a:r>
              <a:rPr b="0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(vagy egészének) </a:t>
            </a:r>
            <a:r>
              <a:rPr b="0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megfizetéséhez kötheti. (VÁLL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Fontos az Art. 171.§ (1), 172.§ (21), Ket 103.§ (2) bekezdések ismerete is! </a:t>
            </a:r>
            <a:r>
              <a:rPr b="0" lang="hu-HU" sz="1800" spc="-1" strike="noStrike">
                <a:solidFill>
                  <a:srgbClr val="00004d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Kép 78" descr=""/>
          <p:cNvPicPr/>
          <p:nvPr/>
        </p:nvPicPr>
        <p:blipFill>
          <a:blip r:embed="rId1">
            <a:lum contrast="-18000"/>
          </a:blip>
          <a:srcRect l="0" t="-11174" r="59396" b="63504"/>
          <a:stretch/>
        </p:blipFill>
        <p:spPr>
          <a:xfrm>
            <a:off x="7257960" y="0"/>
            <a:ext cx="2648160" cy="53964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7" descr="te_t_sarok"/>
          <p:cNvPicPr/>
          <p:nvPr/>
        </p:nvPicPr>
        <p:blipFill>
          <a:blip r:embed="rId2"/>
          <a:stretch/>
        </p:blipFill>
        <p:spPr>
          <a:xfrm>
            <a:off x="8215200" y="2987640"/>
            <a:ext cx="1690920" cy="169236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495360" y="755280"/>
            <a:ext cx="80582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4d"/>
                </a:solidFill>
                <a:latin typeface="Calibri"/>
              </a:rPr>
              <a:t>A befizetési kötelezettség  teljesítésének lehetőségei (Onkado/ASP) 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4d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4d"/>
                </a:solidFill>
                <a:latin typeface="Calibri"/>
              </a:rPr>
              <a:t>készpénzátutalási megbízás (</a:t>
            </a:r>
            <a:r>
              <a:rPr b="0" lang="hu-HU" sz="2000" spc="-1" strike="noStrike">
                <a:solidFill>
                  <a:srgbClr val="00004d"/>
                </a:solidFill>
                <a:latin typeface="Calibri"/>
              </a:rPr>
              <a:t>csekk</a:t>
            </a:r>
            <a:r>
              <a:rPr b="0" lang="hu-HU" sz="2000" spc="-1" strike="noStrike">
                <a:solidFill>
                  <a:srgbClr val="00004d"/>
                </a:solidFill>
                <a:latin typeface="Calibri"/>
              </a:rPr>
              <a:t>) útján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4d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4d"/>
                </a:solidFill>
                <a:latin typeface="Calibri"/>
              </a:rPr>
              <a:t>banki átutalás </a:t>
            </a:r>
            <a:r>
              <a:rPr b="0" lang="hu-HU" sz="2000" spc="-1" strike="noStrike">
                <a:solidFill>
                  <a:srgbClr val="00004d"/>
                </a:solidFill>
                <a:latin typeface="Calibri"/>
              </a:rPr>
              <a:t>útján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4d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4d"/>
                </a:solidFill>
                <a:latin typeface="Calibri"/>
              </a:rPr>
              <a:t>POS-terminálon keresztül </a:t>
            </a:r>
            <a:r>
              <a:rPr b="0" i="1" lang="hu-HU" sz="2000" spc="-1" strike="noStrike">
                <a:solidFill>
                  <a:srgbClr val="00004d"/>
                </a:solidFill>
                <a:latin typeface="Calibri"/>
              </a:rPr>
              <a:t>(bankkártyás befizetéssel az ügyfélfogadó helyiségben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4d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4d"/>
                </a:solidFill>
                <a:latin typeface="Calibri"/>
              </a:rPr>
              <a:t>i-csekken keresztü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4d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4d"/>
                </a:solidFill>
                <a:latin typeface="Calibri"/>
              </a:rPr>
              <a:t>On-line</a:t>
            </a:r>
            <a:r>
              <a:rPr b="0" lang="hu-HU" sz="2000" spc="-1" strike="noStrike">
                <a:solidFill>
                  <a:srgbClr val="00004d"/>
                </a:solidFill>
                <a:latin typeface="Calibri"/>
              </a:rPr>
              <a:t> </a:t>
            </a:r>
            <a:r>
              <a:rPr b="0" i="1" lang="hu-HU" sz="2000" spc="-1" strike="noStrike">
                <a:solidFill>
                  <a:srgbClr val="00004d"/>
                </a:solidFill>
                <a:latin typeface="Calibri"/>
              </a:rPr>
              <a:t>(e-ado elektronikus lekérdező rendszer regisztrációhoz kötött, 0-24 h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4d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4d"/>
                </a:solidFill>
                <a:latin typeface="Calibri"/>
              </a:rPr>
              <a:t>Art. 38.§ (6) </a:t>
            </a:r>
            <a:r>
              <a:rPr b="0" i="1" lang="hu-HU" sz="1800" spc="-1" strike="noStrike">
                <a:solidFill>
                  <a:srgbClr val="00004d"/>
                </a:solidFill>
                <a:latin typeface="Calibri"/>
              </a:rPr>
              <a:t>Jogszabály (ÖR</a:t>
            </a:r>
            <a:r>
              <a:rPr b="0" i="1" lang="hu-HU" sz="1800" spc="-1" strike="noStrike">
                <a:solidFill>
                  <a:srgbClr val="00004d"/>
                </a:solidFill>
                <a:latin typeface="Wingdings"/>
                <a:ea typeface="Wingdings"/>
              </a:rPr>
              <a:t></a:t>
            </a:r>
            <a:r>
              <a:rPr b="0" i="1" lang="hu-HU" sz="1800" spc="-1" strike="noStrike">
                <a:solidFill>
                  <a:srgbClr val="00004d"/>
                </a:solidFill>
                <a:latin typeface="Calibri"/>
              </a:rPr>
              <a:t>) az e §-ban meghatározott fizetési módoktól eltérő fizetési módot is megállapíthat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4d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Kép 78" descr=""/>
          <p:cNvPicPr/>
          <p:nvPr/>
        </p:nvPicPr>
        <p:blipFill>
          <a:blip r:embed="rId1">
            <a:lum contrast="-18000"/>
          </a:blip>
          <a:srcRect l="0" t="-11174" r="79016" b="63504"/>
          <a:stretch/>
        </p:blipFill>
        <p:spPr>
          <a:xfrm>
            <a:off x="128520" y="-36360"/>
            <a:ext cx="1368360" cy="539640"/>
          </a:xfrm>
          <a:prstGeom prst="rect">
            <a:avLst/>
          </a:prstGeom>
          <a:ln w="0">
            <a:noFill/>
          </a:ln>
        </p:spPr>
      </p:pic>
      <p:sp>
        <p:nvSpPr>
          <p:cNvPr id="271" name="Line 3"/>
          <p:cNvSpPr/>
          <p:nvPr/>
        </p:nvSpPr>
        <p:spPr>
          <a:xfrm>
            <a:off x="415800" y="468360"/>
            <a:ext cx="9001080" cy="0"/>
          </a:xfrm>
          <a:prstGeom prst="line">
            <a:avLst/>
          </a:prstGeom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" name="Line 4"/>
          <p:cNvSpPr/>
          <p:nvPr/>
        </p:nvSpPr>
        <p:spPr>
          <a:xfrm>
            <a:off x="415800" y="4140360"/>
            <a:ext cx="6337440" cy="0"/>
          </a:xfrm>
          <a:prstGeom prst="line">
            <a:avLst/>
          </a:prstGeom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344520" y="1835280"/>
            <a:ext cx="9361440" cy="16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2060"/>
                </a:solidFill>
                <a:latin typeface="Century Gothic"/>
              </a:rPr>
              <a:t>KÖSZÖNÖM A MEGTISZTELŐ FIGYELMET!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74" name="Picture 8" descr="te_t_sarok"/>
          <p:cNvPicPr/>
          <p:nvPr/>
        </p:nvPicPr>
        <p:blipFill>
          <a:blip r:embed="rId2"/>
          <a:stretch/>
        </p:blipFill>
        <p:spPr>
          <a:xfrm>
            <a:off x="8215200" y="2987640"/>
            <a:ext cx="1690920" cy="16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Kép 78" descr=""/>
          <p:cNvPicPr/>
          <p:nvPr/>
        </p:nvPicPr>
        <p:blipFill>
          <a:blip r:embed="rId1">
            <a:lum contrast="-18000"/>
          </a:blip>
          <a:srcRect l="0" t="-11174" r="59396" b="63504"/>
          <a:stretch/>
        </p:blipFill>
        <p:spPr>
          <a:xfrm>
            <a:off x="7257960" y="0"/>
            <a:ext cx="2648160" cy="539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te_t_sarok"/>
          <p:cNvPicPr/>
          <p:nvPr/>
        </p:nvPicPr>
        <p:blipFill>
          <a:blip r:embed="rId2"/>
          <a:stretch/>
        </p:blipFill>
        <p:spPr>
          <a:xfrm>
            <a:off x="8215200" y="2987640"/>
            <a:ext cx="1690920" cy="16923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"/>
          <p:cNvSpPr/>
          <p:nvPr/>
        </p:nvSpPr>
        <p:spPr>
          <a:xfrm>
            <a:off x="4182120" y="90360"/>
            <a:ext cx="154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Idegenforgalmi ad</a:t>
            </a:r>
            <a:r>
              <a:rPr b="0" lang="hu-HU" sz="1200" spc="-1" strike="noStrike">
                <a:solidFill>
                  <a:srgbClr val="ffffff"/>
                </a:solidFill>
                <a:latin typeface="Century Gothic"/>
              </a:rPr>
              <a:t>ó</a:t>
            </a: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203400" y="120960"/>
            <a:ext cx="3253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Idegenforgalmi ad</a:t>
            </a:r>
            <a:r>
              <a:rPr b="0" lang="hu-HU" sz="1200" spc="-1" strike="noStrike">
                <a:solidFill>
                  <a:srgbClr val="ffffff"/>
                </a:solidFill>
                <a:latin typeface="Century Gothic"/>
              </a:rPr>
              <a:t>ó</a:t>
            </a: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ffffff"/>
                </a:solidFill>
                <a:latin typeface="Century Gothic"/>
              </a:rPr>
              <a:t>Idegenforgalmi adó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72520" y="539280"/>
            <a:ext cx="891540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4d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Alapelvek és fő szempontok </a:t>
            </a:r>
            <a:r>
              <a:rPr b="0" lang="hu-HU" sz="24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Eger Megyei Jogú Városban az önkormányzati adóeljárásokba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28560" indent="-228600" algn="just">
              <a:lnSpc>
                <a:spcPct val="100000"/>
              </a:lnSpc>
              <a:buClr>
                <a:srgbClr val="0000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Adómérték differenciálás </a:t>
            </a:r>
            <a:r>
              <a:rPr b="0" lang="hu-HU" sz="20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(vagyoni típusú adók) </a:t>
            </a:r>
            <a:r>
              <a:rPr b="0" lang="hu-HU" sz="16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NGM 36.226/2016</a:t>
            </a:r>
            <a:r>
              <a:rPr b="0" lang="hu-HU" sz="20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28880" indent="-228600" algn="just">
              <a:lnSpc>
                <a:spcPct val="100000"/>
              </a:lnSpc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helyi sajátosságok, önkormányzat gazdálkodási követelményeit, és adóalanyok széles körét érinti</a:t>
            </a:r>
            <a:r>
              <a:rPr b="0" lang="hu-HU" sz="17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, (Kúria ne találjon „fogást”</a:t>
            </a:r>
            <a:r>
              <a:rPr b="0" lang="hu-HU" sz="1700" spc="-1" strike="noStrike">
                <a:solidFill>
                  <a:srgbClr val="00004d"/>
                </a:solidFill>
                <a:latin typeface="Wingdings"/>
                <a:ea typeface="Wingdings"/>
              </a:rPr>
              <a:t></a:t>
            </a:r>
            <a:r>
              <a:rPr b="0" lang="hu-HU" sz="17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 - 2018-től bárki egyből Kúriához fordulhat </a:t>
            </a:r>
            <a:r>
              <a:rPr b="0" lang="hu-HU" sz="1700" spc="-1" strike="noStrike">
                <a:solidFill>
                  <a:srgbClr val="00004d"/>
                </a:solidFill>
                <a:latin typeface="Wingdings"/>
                <a:ea typeface="Wingdings"/>
              </a:rPr>
              <a:t></a:t>
            </a:r>
            <a:r>
              <a:rPr b="0" lang="hu-HU" sz="17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)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2" marL="1028880" indent="-228600" algn="just">
              <a:lnSpc>
                <a:spcPct val="100000"/>
              </a:lnSpc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rendelet előkészítés </a:t>
            </a:r>
            <a:r>
              <a:rPr b="0" lang="hu-HU" sz="17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modellezés,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2" marL="1028880" indent="-228600" algn="just">
              <a:lnSpc>
                <a:spcPct val="100000"/>
              </a:lnSpc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miként jutott el a testület a döntésig,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2" marL="1028880" indent="-228600" algn="just">
              <a:lnSpc>
                <a:spcPct val="100000"/>
              </a:lnSpc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ezt kellene igazolni az előterjesztés során (hatástanulmánnyal stb.),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2" marL="1028880" indent="-228600" algn="just">
              <a:lnSpc>
                <a:spcPct val="100000"/>
              </a:lnSpc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nem elég önmagában (Kúria döntések </a:t>
            </a:r>
            <a:r>
              <a:rPr b="0" i="1" lang="hu-HU" sz="17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(AB szerepét is átvette)</a:t>
            </a:r>
            <a:r>
              <a:rPr b="0" lang="hu-HU" sz="17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) az adómaximum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2" marL="1028880" indent="-228600" algn="just">
              <a:lnSpc>
                <a:spcPct val="100000"/>
              </a:lnSpc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(</a:t>
            </a:r>
            <a:r>
              <a:rPr b="0" lang="hu-HU" sz="17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31</a:t>
            </a:r>
            <a:r>
              <a:rPr b="0" lang="hu-HU" sz="17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 1846 Ft/m2/év, </a:t>
            </a:r>
            <a:r>
              <a:rPr b="0" lang="hu-HU" sz="17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32</a:t>
            </a:r>
            <a:r>
              <a:rPr b="0" lang="hu-HU" sz="17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 335Ft/m2/év, </a:t>
            </a:r>
            <a:r>
              <a:rPr b="0" lang="hu-HU" sz="17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33</a:t>
            </a:r>
            <a:r>
              <a:rPr b="0" lang="hu-HU" sz="17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 28.538/adótárgy) betartása,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2" marL="1028880" indent="-228600" algn="just">
              <a:lnSpc>
                <a:spcPct val="100000"/>
              </a:lnSpc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ha rendelti tényállások igazolhatóan megállják a helyüket nem kell „hozzányúlni” az Ör-hez.</a:t>
            </a:r>
            <a:r>
              <a:rPr b="0" lang="hu-HU" sz="16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Kép 78" descr=""/>
          <p:cNvPicPr/>
          <p:nvPr/>
        </p:nvPicPr>
        <p:blipFill>
          <a:blip r:embed="rId1">
            <a:lum contrast="-18000"/>
          </a:blip>
          <a:srcRect l="0" t="-11174" r="59396" b="63504"/>
          <a:stretch/>
        </p:blipFill>
        <p:spPr>
          <a:xfrm>
            <a:off x="7257960" y="0"/>
            <a:ext cx="2648160" cy="539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te_t_sarok"/>
          <p:cNvPicPr/>
          <p:nvPr/>
        </p:nvPicPr>
        <p:blipFill>
          <a:blip r:embed="rId2"/>
          <a:stretch/>
        </p:blipFill>
        <p:spPr>
          <a:xfrm>
            <a:off x="8215200" y="2987640"/>
            <a:ext cx="1690920" cy="169236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4"/>
          <p:cNvSpPr/>
          <p:nvPr/>
        </p:nvSpPr>
        <p:spPr>
          <a:xfrm>
            <a:off x="4182120" y="90360"/>
            <a:ext cx="154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Idegenforgalmi ad</a:t>
            </a:r>
            <a:r>
              <a:rPr b="0" lang="hu-HU" sz="1200" spc="-1" strike="noStrike">
                <a:solidFill>
                  <a:srgbClr val="ffffff"/>
                </a:solidFill>
                <a:latin typeface="Century Gothic"/>
              </a:rPr>
              <a:t>ó</a:t>
            </a: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203400" y="120960"/>
            <a:ext cx="3253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Idegenforgalmi ad</a:t>
            </a:r>
            <a:r>
              <a:rPr b="0" lang="hu-HU" sz="1200" spc="-1" strike="noStrike">
                <a:solidFill>
                  <a:srgbClr val="ffffff"/>
                </a:solidFill>
                <a:latin typeface="Century Gothic"/>
              </a:rPr>
              <a:t>ó</a:t>
            </a: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ffffff"/>
                </a:solidFill>
                <a:latin typeface="Century Gothic"/>
              </a:rPr>
              <a:t>Idegenforgalmi adó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72520" y="539280"/>
            <a:ext cx="891540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buClr>
                <a:srgbClr val="00004d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MJV Építményadó mértékek 2016.</a:t>
            </a:r>
            <a:br>
              <a:rPr sz="1800"/>
            </a:br>
            <a:r>
              <a:rPr b="0" lang="hu-HU" sz="12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(Törvényi maximum: 1.848 Ft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28600" indent="-228600">
              <a:spcBef>
                <a:spcPts val="1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228600" indent="-228600">
              <a:spcBef>
                <a:spcPts val="1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700" spc="-1" strike="noStrike">
                <a:solidFill>
                  <a:srgbClr val="00004d"/>
                </a:solidFill>
                <a:latin typeface="Tahoma"/>
              </a:rPr>
              <a:t>Békéscsaba</a:t>
            </a:r>
            <a:r>
              <a:rPr b="0" lang="hu-HU" sz="700" spc="-1" strike="noStrike">
                <a:solidFill>
                  <a:srgbClr val="00004d"/>
                </a:solidFill>
                <a:latin typeface="Tahoma"/>
              </a:rPr>
              <a:t>	</a:t>
            </a:r>
            <a:r>
              <a:rPr b="0" lang="hu-HU" sz="700" spc="-1" strike="noStrike">
                <a:solidFill>
                  <a:srgbClr val="00004d"/>
                </a:solidFill>
                <a:latin typeface="Tahoma"/>
              </a:rPr>
              <a:t>	</a:t>
            </a:r>
            <a:r>
              <a:rPr b="0" lang="hu-HU" sz="700" spc="-1" strike="noStrike">
                <a:solidFill>
                  <a:srgbClr val="00004d"/>
                </a:solidFill>
                <a:latin typeface="Tahoma"/>
              </a:rPr>
              <a:t>200; 500; 1200</a:t>
            </a:r>
            <a:r>
              <a:rPr b="0" lang="hu-HU" sz="700" spc="-1" strike="noStrike">
                <a:solidFill>
                  <a:srgbClr val="00004d"/>
                </a:solidFill>
                <a:latin typeface="Tahoma"/>
              </a:rPr>
              <a:t>	</a:t>
            </a: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228600" indent="-228600">
              <a:spcBef>
                <a:spcPts val="1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700" spc="-1" strike="noStrike">
                <a:solidFill>
                  <a:srgbClr val="00004d"/>
                </a:solidFill>
                <a:latin typeface="Tahoma"/>
              </a:rPr>
              <a:t>Debrecen</a:t>
            </a:r>
            <a:r>
              <a:rPr b="0" lang="hu-HU" sz="700" spc="-1" strike="noStrike">
                <a:solidFill>
                  <a:srgbClr val="00004d"/>
                </a:solidFill>
                <a:latin typeface="Tahoma"/>
              </a:rPr>
              <a:t>	</a:t>
            </a:r>
            <a:r>
              <a:rPr b="0" lang="hu-HU" sz="700" spc="-1" strike="noStrike">
                <a:solidFill>
                  <a:srgbClr val="00004d"/>
                </a:solidFill>
                <a:latin typeface="Tahoma"/>
              </a:rPr>
              <a:t>	</a:t>
            </a:r>
            <a:r>
              <a:rPr b="0" lang="hu-HU" sz="700" spc="-1" strike="noStrike">
                <a:solidFill>
                  <a:srgbClr val="00004d"/>
                </a:solidFill>
                <a:latin typeface="Tahoma"/>
              </a:rPr>
              <a:t>500; 750</a:t>
            </a:r>
            <a:r>
              <a:rPr b="0" lang="hu-HU" sz="700" spc="-1" strike="noStrike">
                <a:solidFill>
                  <a:srgbClr val="00004d"/>
                </a:solidFill>
                <a:latin typeface="Tahoma"/>
              </a:rPr>
              <a:t>	</a:t>
            </a: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228600" indent="-228600">
              <a:spcBef>
                <a:spcPts val="1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004d"/>
                </a:solidFill>
                <a:latin typeface="Tahoma"/>
              </a:rPr>
              <a:t>Dunaújváros</a:t>
            </a:r>
            <a:r>
              <a:rPr b="0" lang="pt-BR" sz="700" spc="-1" strike="noStrike">
                <a:solidFill>
                  <a:srgbClr val="00004d"/>
                </a:solidFill>
                <a:latin typeface="Tahoma"/>
              </a:rPr>
              <a:t>	</a:t>
            </a:r>
            <a:r>
              <a:rPr b="0" lang="hu-HU" sz="700" spc="-1" strike="noStrike">
                <a:solidFill>
                  <a:srgbClr val="00004d"/>
                </a:solidFill>
                <a:latin typeface="Tahoma"/>
              </a:rPr>
              <a:t>	</a:t>
            </a:r>
            <a:r>
              <a:rPr b="0" lang="pt-BR" sz="700" spc="-1" strike="noStrike">
                <a:solidFill>
                  <a:srgbClr val="00004d"/>
                </a:solidFill>
                <a:latin typeface="Tahoma"/>
              </a:rPr>
              <a:t>250; 350; 400; 450; 600; 700; 800; 850; 900; 1000; 1100; 1300; 1400; 1650</a:t>
            </a:r>
            <a:r>
              <a:rPr b="0" lang="pt-BR" sz="700" spc="-1" strike="noStrike">
                <a:solidFill>
                  <a:srgbClr val="00004d"/>
                </a:solidFill>
                <a:latin typeface="Tahoma"/>
              </a:rPr>
              <a:t>	</a:t>
            </a: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228600" indent="-228600">
              <a:spcBef>
                <a:spcPts val="1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700" spc="-1" strike="noStrike">
                <a:solidFill>
                  <a:srgbClr val="00004d"/>
                </a:solidFill>
                <a:latin typeface="Tahoma"/>
              </a:rPr>
              <a:t>Eger</a:t>
            </a:r>
            <a:r>
              <a:rPr b="0" lang="hu-HU" sz="700" spc="-1" strike="noStrike">
                <a:solidFill>
                  <a:srgbClr val="00004d"/>
                </a:solidFill>
                <a:latin typeface="Tahoma"/>
              </a:rPr>
              <a:t>	</a:t>
            </a:r>
            <a:r>
              <a:rPr b="0" lang="hu-HU" sz="700" spc="-1" strike="noStrike">
                <a:solidFill>
                  <a:srgbClr val="00004d"/>
                </a:solidFill>
                <a:latin typeface="Tahoma"/>
              </a:rPr>
              <a:t>	</a:t>
            </a:r>
            <a:r>
              <a:rPr b="0" lang="hu-HU" sz="700" spc="-1" strike="noStrike">
                <a:solidFill>
                  <a:srgbClr val="00004d"/>
                </a:solidFill>
                <a:latin typeface="Tahoma"/>
              </a:rPr>
              <a:t>60; 250; 400; 600; 700; 800; 1 700</a:t>
            </a:r>
            <a:r>
              <a:rPr b="0" lang="hu-HU" sz="700" spc="-1" strike="noStrike">
                <a:solidFill>
                  <a:srgbClr val="00004d"/>
                </a:solidFill>
                <a:latin typeface="Tahoma"/>
              </a:rPr>
              <a:t>	</a:t>
            </a: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228600" indent="-228600">
              <a:spcBef>
                <a:spcPts val="1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4d"/>
                </a:solidFill>
                <a:latin typeface="Tahoma"/>
              </a:rPr>
              <a:t>Érd</a:t>
            </a:r>
            <a:r>
              <a:rPr b="0" lang="fr-FR" sz="700" spc="-1" strike="noStrike">
                <a:solidFill>
                  <a:srgbClr val="00004d"/>
                </a:solidFill>
                <a:latin typeface="Tahoma"/>
              </a:rPr>
              <a:t>	</a:t>
            </a:r>
            <a:r>
              <a:rPr b="0" lang="hu-HU" sz="700" spc="-1" strike="noStrike">
                <a:solidFill>
                  <a:srgbClr val="00004d"/>
                </a:solidFill>
                <a:latin typeface="Tahoma"/>
              </a:rPr>
              <a:t>	</a:t>
            </a:r>
            <a:r>
              <a:rPr b="0" lang="fr-FR" sz="700" spc="-1" strike="noStrike">
                <a:solidFill>
                  <a:srgbClr val="00004d"/>
                </a:solidFill>
                <a:latin typeface="Tahoma"/>
              </a:rPr>
              <a:t>440; 880; 1100; 1300; 1500; 1700</a:t>
            </a:r>
            <a:r>
              <a:rPr b="0" lang="fr-FR" sz="700" spc="-1" strike="noStrike">
                <a:solidFill>
                  <a:srgbClr val="00004d"/>
                </a:solidFill>
                <a:latin typeface="Tahoma"/>
              </a:rPr>
              <a:t>	</a:t>
            </a: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228600" indent="-228600">
              <a:spcBef>
                <a:spcPts val="1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700" spc="-1" strike="noStrike">
                <a:solidFill>
                  <a:srgbClr val="00004d"/>
                </a:solidFill>
                <a:latin typeface="Tahoma"/>
              </a:rPr>
              <a:t>Győr</a:t>
            </a:r>
            <a:r>
              <a:rPr b="0" lang="hu-HU" sz="700" spc="-1" strike="noStrike">
                <a:solidFill>
                  <a:srgbClr val="00004d"/>
                </a:solidFill>
                <a:latin typeface="Tahoma"/>
              </a:rPr>
              <a:t>	</a:t>
            </a:r>
            <a:r>
              <a:rPr b="0" lang="hu-HU" sz="700" spc="-1" strike="noStrike">
                <a:solidFill>
                  <a:srgbClr val="00004d"/>
                </a:solidFill>
                <a:latin typeface="Tahoma"/>
              </a:rPr>
              <a:t>	</a:t>
            </a:r>
            <a:r>
              <a:rPr b="0" lang="hu-HU" sz="700" spc="-1" strike="noStrike">
                <a:solidFill>
                  <a:srgbClr val="00004d"/>
                </a:solidFill>
                <a:latin typeface="Tahoma"/>
              </a:rPr>
              <a:t>10; 900</a:t>
            </a:r>
            <a:r>
              <a:rPr b="0" lang="hu-HU" sz="700" spc="-1" strike="noStrike">
                <a:solidFill>
                  <a:srgbClr val="00004d"/>
                </a:solidFill>
                <a:latin typeface="Tahoma"/>
              </a:rPr>
              <a:t>	</a:t>
            </a: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228600" indent="-228600">
              <a:spcBef>
                <a:spcPts val="1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700" spc="-1" strike="noStrike">
                <a:solidFill>
                  <a:srgbClr val="00004d"/>
                </a:solidFill>
                <a:latin typeface="Tahoma"/>
              </a:rPr>
              <a:t>Hódmezővásárhely</a:t>
            </a:r>
            <a:r>
              <a:rPr b="0" lang="hu-HU" sz="700" spc="-1" strike="noStrike">
                <a:solidFill>
                  <a:srgbClr val="00004d"/>
                </a:solidFill>
                <a:latin typeface="Tahoma"/>
              </a:rPr>
              <a:t>	</a:t>
            </a:r>
            <a:r>
              <a:rPr b="0" lang="hu-HU" sz="700" spc="-1" strike="noStrike">
                <a:solidFill>
                  <a:srgbClr val="00004d"/>
                </a:solidFill>
                <a:latin typeface="Tahoma"/>
              </a:rPr>
              <a:t>135; 155; 165; 185; 300; 400; 500; 600; 900; 1000; 1100; 1300; 1500; 1550; 1700; 1750; 1848</a:t>
            </a:r>
            <a:r>
              <a:rPr b="0" lang="hu-HU" sz="700" spc="-1" strike="noStrike">
                <a:solidFill>
                  <a:srgbClr val="00004d"/>
                </a:solidFill>
                <a:latin typeface="Tahoma"/>
              </a:rPr>
              <a:t>	</a:t>
            </a: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228600" indent="-228600">
              <a:spcBef>
                <a:spcPts val="1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700" spc="-1" strike="noStrike">
                <a:solidFill>
                  <a:srgbClr val="00004d"/>
                </a:solidFill>
                <a:latin typeface="Tahoma"/>
              </a:rPr>
              <a:t>Kaposvár</a:t>
            </a:r>
            <a:r>
              <a:rPr b="0" lang="hu-HU" sz="700" spc="-1" strike="noStrike">
                <a:solidFill>
                  <a:srgbClr val="00004d"/>
                </a:solidFill>
                <a:latin typeface="Tahoma"/>
              </a:rPr>
              <a:t>	</a:t>
            </a:r>
            <a:r>
              <a:rPr b="0" lang="hu-HU" sz="700" spc="-1" strike="noStrike">
                <a:solidFill>
                  <a:srgbClr val="00004d"/>
                </a:solidFill>
                <a:latin typeface="Tahoma"/>
              </a:rPr>
              <a:t>	</a:t>
            </a:r>
            <a:r>
              <a:rPr b="0" lang="hu-HU" sz="700" spc="-1" strike="noStrike">
                <a:solidFill>
                  <a:srgbClr val="00004d"/>
                </a:solidFill>
                <a:latin typeface="Tahoma"/>
              </a:rPr>
              <a:t>350; 835; 1848</a:t>
            </a:r>
            <a:r>
              <a:rPr b="0" lang="hu-HU" sz="700" spc="-1" strike="noStrike">
                <a:solidFill>
                  <a:srgbClr val="00004d"/>
                </a:solidFill>
                <a:latin typeface="Tahoma"/>
              </a:rPr>
              <a:t>	</a:t>
            </a: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228600" indent="-228600">
              <a:spcBef>
                <a:spcPts val="1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700" spc="-1" strike="noStrike">
                <a:solidFill>
                  <a:srgbClr val="00004d"/>
                </a:solidFill>
                <a:latin typeface="Tahoma"/>
              </a:rPr>
              <a:t>Kecskemét</a:t>
            </a:r>
            <a:r>
              <a:rPr b="0" lang="hu-HU" sz="700" spc="-1" strike="noStrike">
                <a:solidFill>
                  <a:srgbClr val="00004d"/>
                </a:solidFill>
                <a:latin typeface="Tahoma"/>
              </a:rPr>
              <a:t>	</a:t>
            </a:r>
            <a:r>
              <a:rPr b="0" lang="hu-HU" sz="700" spc="-1" strike="noStrike">
                <a:solidFill>
                  <a:srgbClr val="00004d"/>
                </a:solidFill>
                <a:latin typeface="Tahoma"/>
              </a:rPr>
              <a:t>	</a:t>
            </a:r>
            <a:r>
              <a:rPr b="0" lang="hu-HU" sz="700" spc="-1" strike="noStrike">
                <a:solidFill>
                  <a:srgbClr val="00004d"/>
                </a:solidFill>
                <a:latin typeface="Tahoma"/>
              </a:rPr>
              <a:t>300; 540; 600</a:t>
            </a:r>
            <a:r>
              <a:rPr b="0" lang="hu-HU" sz="700" spc="-1" strike="noStrike">
                <a:solidFill>
                  <a:srgbClr val="00004d"/>
                </a:solidFill>
                <a:latin typeface="Tahoma"/>
              </a:rPr>
              <a:t>	</a:t>
            </a: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228600" indent="-228600">
              <a:spcBef>
                <a:spcPts val="1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700" spc="-1" strike="noStrike">
                <a:solidFill>
                  <a:srgbClr val="00004d"/>
                </a:solidFill>
                <a:latin typeface="Tahoma"/>
              </a:rPr>
              <a:t>Miskolc</a:t>
            </a:r>
            <a:r>
              <a:rPr b="0" lang="nb-NO" sz="700" spc="-1" strike="noStrike">
                <a:solidFill>
                  <a:srgbClr val="00004d"/>
                </a:solidFill>
                <a:latin typeface="Tahoma"/>
              </a:rPr>
              <a:t>	</a:t>
            </a:r>
            <a:r>
              <a:rPr b="0" lang="hu-HU" sz="700" spc="-1" strike="noStrike">
                <a:solidFill>
                  <a:srgbClr val="00004d"/>
                </a:solidFill>
                <a:latin typeface="Tahoma"/>
              </a:rPr>
              <a:t>	</a:t>
            </a:r>
            <a:r>
              <a:rPr b="0" lang="nb-NO" sz="700" spc="-1" strike="noStrike">
                <a:solidFill>
                  <a:srgbClr val="00004d"/>
                </a:solidFill>
                <a:latin typeface="Tahoma"/>
              </a:rPr>
              <a:t>300; 400; 700; 800; 1200; 1300; 1700</a:t>
            </a:r>
            <a:r>
              <a:rPr b="0" lang="nb-NO" sz="700" spc="-1" strike="noStrike">
                <a:solidFill>
                  <a:srgbClr val="00004d"/>
                </a:solidFill>
                <a:latin typeface="Tahoma"/>
              </a:rPr>
              <a:t>	</a:t>
            </a: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228600" indent="-228600">
              <a:spcBef>
                <a:spcPts val="1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700" spc="-1" strike="noStrike">
                <a:solidFill>
                  <a:srgbClr val="00004d"/>
                </a:solidFill>
                <a:latin typeface="Tahoma"/>
              </a:rPr>
              <a:t>Nagykanizsa</a:t>
            </a:r>
            <a:r>
              <a:rPr b="0" lang="hu-HU" sz="700" spc="-1" strike="noStrike">
                <a:solidFill>
                  <a:srgbClr val="00004d"/>
                </a:solidFill>
                <a:latin typeface="Tahoma"/>
              </a:rPr>
              <a:t>	</a:t>
            </a:r>
            <a:r>
              <a:rPr b="0" lang="hu-HU" sz="700" spc="-1" strike="noStrike">
                <a:solidFill>
                  <a:srgbClr val="00004d"/>
                </a:solidFill>
                <a:latin typeface="Tahoma"/>
              </a:rPr>
              <a:t>	</a:t>
            </a:r>
            <a:r>
              <a:rPr b="0" lang="hu-HU" sz="700" spc="-1" strike="noStrike">
                <a:solidFill>
                  <a:srgbClr val="00004d"/>
                </a:solidFill>
                <a:latin typeface="Tahoma"/>
              </a:rPr>
              <a:t>500; 700; 1500</a:t>
            </a:r>
            <a:r>
              <a:rPr b="0" lang="hu-HU" sz="700" spc="-1" strike="noStrike">
                <a:solidFill>
                  <a:srgbClr val="00004d"/>
                </a:solidFill>
                <a:latin typeface="Tahoma"/>
              </a:rPr>
              <a:t>	</a:t>
            </a: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228600" indent="-228600">
              <a:spcBef>
                <a:spcPts val="1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700" spc="-1" strike="noStrike">
                <a:solidFill>
                  <a:srgbClr val="00004d"/>
                </a:solidFill>
                <a:latin typeface="Tahoma"/>
              </a:rPr>
              <a:t>Nyíregyháza </a:t>
            </a:r>
            <a:r>
              <a:rPr b="0" lang="hu-HU" sz="700" spc="-1" strike="noStrike">
                <a:solidFill>
                  <a:srgbClr val="00004d"/>
                </a:solidFill>
                <a:latin typeface="Tahoma"/>
              </a:rPr>
              <a:t>	</a:t>
            </a:r>
            <a:r>
              <a:rPr b="0" lang="hu-HU" sz="700" spc="-1" strike="noStrike">
                <a:solidFill>
                  <a:srgbClr val="00004d"/>
                </a:solidFill>
                <a:latin typeface="Tahoma"/>
              </a:rPr>
              <a:t>	</a:t>
            </a:r>
            <a:r>
              <a:rPr b="0" lang="hu-HU" sz="700" spc="-1" strike="noStrike">
                <a:solidFill>
                  <a:srgbClr val="00004d"/>
                </a:solidFill>
                <a:latin typeface="Tahoma"/>
              </a:rPr>
              <a:t>(korrigált forgalmi érték %-a)</a:t>
            </a:r>
            <a:r>
              <a:rPr b="0" lang="hu-HU" sz="700" spc="-1" strike="noStrike">
                <a:solidFill>
                  <a:srgbClr val="00004d"/>
                </a:solidFill>
                <a:latin typeface="Tahoma"/>
              </a:rPr>
              <a:t>	</a:t>
            </a:r>
            <a:r>
              <a:rPr b="0" lang="hu-HU" sz="700" spc="-1" strike="noStrike">
                <a:solidFill>
                  <a:srgbClr val="00004d"/>
                </a:solidFill>
                <a:latin typeface="Tahoma"/>
              </a:rPr>
              <a:t>0,5; 2,6</a:t>
            </a:r>
            <a:r>
              <a:rPr b="0" lang="hu-HU" sz="700" spc="-1" strike="noStrike">
                <a:solidFill>
                  <a:srgbClr val="00004d"/>
                </a:solidFill>
                <a:latin typeface="Tahoma"/>
              </a:rPr>
              <a:t>	</a:t>
            </a: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228600" indent="-228600">
              <a:spcBef>
                <a:spcPts val="1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4d"/>
                </a:solidFill>
                <a:latin typeface="Tahoma"/>
              </a:rPr>
              <a:t>Pécs</a:t>
            </a:r>
            <a:r>
              <a:rPr b="0" lang="fr-FR" sz="700" spc="-1" strike="noStrike">
                <a:solidFill>
                  <a:srgbClr val="00004d"/>
                </a:solidFill>
                <a:latin typeface="Tahoma"/>
              </a:rPr>
              <a:t>	</a:t>
            </a:r>
            <a:r>
              <a:rPr b="0" lang="hu-HU" sz="700" spc="-1" strike="noStrike">
                <a:solidFill>
                  <a:srgbClr val="00004d"/>
                </a:solidFill>
                <a:latin typeface="Tahoma"/>
              </a:rPr>
              <a:t>	</a:t>
            </a:r>
            <a:r>
              <a:rPr b="0" lang="fr-FR" sz="700" spc="-1" strike="noStrike">
                <a:solidFill>
                  <a:srgbClr val="00004d"/>
                </a:solidFill>
                <a:latin typeface="Tahoma"/>
              </a:rPr>
              <a:t>200; 300; 400; 500; 600; 850; 1700</a:t>
            </a:r>
            <a:r>
              <a:rPr b="0" lang="fr-FR" sz="700" spc="-1" strike="noStrike">
                <a:solidFill>
                  <a:srgbClr val="00004d"/>
                </a:solidFill>
                <a:latin typeface="Tahoma"/>
              </a:rPr>
              <a:t>	</a:t>
            </a: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228600" indent="-228600">
              <a:spcBef>
                <a:spcPts val="1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4d"/>
                </a:solidFill>
                <a:latin typeface="Tahoma"/>
              </a:rPr>
              <a:t>Salgótarján</a:t>
            </a:r>
            <a:r>
              <a:rPr b="0" lang="es-ES" sz="700" spc="-1" strike="noStrike">
                <a:solidFill>
                  <a:srgbClr val="00004d"/>
                </a:solidFill>
                <a:latin typeface="Tahoma"/>
              </a:rPr>
              <a:t>	</a:t>
            </a:r>
            <a:r>
              <a:rPr b="0" lang="hu-HU" sz="700" spc="-1" strike="noStrike">
                <a:solidFill>
                  <a:srgbClr val="00004d"/>
                </a:solidFill>
                <a:latin typeface="Tahoma"/>
              </a:rPr>
              <a:t>	</a:t>
            </a:r>
            <a:r>
              <a:rPr b="0" lang="es-ES" sz="700" spc="-1" strike="noStrike">
                <a:solidFill>
                  <a:srgbClr val="00004d"/>
                </a:solidFill>
                <a:latin typeface="Tahoma"/>
              </a:rPr>
              <a:t>200; 1000; 1300; 1400</a:t>
            </a:r>
            <a:r>
              <a:rPr b="0" lang="es-ES" sz="700" spc="-1" strike="noStrike">
                <a:solidFill>
                  <a:srgbClr val="00004d"/>
                </a:solidFill>
                <a:latin typeface="Tahoma"/>
              </a:rPr>
              <a:t>	</a:t>
            </a: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228600" indent="-228600">
              <a:spcBef>
                <a:spcPts val="1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700" spc="-1" strike="noStrike">
                <a:solidFill>
                  <a:srgbClr val="00004d"/>
                </a:solidFill>
                <a:latin typeface="Tahoma"/>
              </a:rPr>
              <a:t>Sopron</a:t>
            </a:r>
            <a:r>
              <a:rPr b="0" lang="hu-HU" sz="700" spc="-1" strike="noStrike">
                <a:solidFill>
                  <a:srgbClr val="00004d"/>
                </a:solidFill>
                <a:latin typeface="Tahoma"/>
              </a:rPr>
              <a:t>	</a:t>
            </a:r>
            <a:r>
              <a:rPr b="0" lang="hu-HU" sz="700" spc="-1" strike="noStrike">
                <a:solidFill>
                  <a:srgbClr val="00004d"/>
                </a:solidFill>
                <a:latin typeface="Tahoma"/>
              </a:rPr>
              <a:t>	</a:t>
            </a:r>
            <a:r>
              <a:rPr b="0" lang="hu-HU" sz="700" spc="-1" strike="noStrike">
                <a:solidFill>
                  <a:srgbClr val="00004d"/>
                </a:solidFill>
                <a:latin typeface="Tahoma"/>
              </a:rPr>
              <a:t>400; 900</a:t>
            </a:r>
            <a:r>
              <a:rPr b="0" lang="hu-HU" sz="700" spc="-1" strike="noStrike">
                <a:solidFill>
                  <a:srgbClr val="00004d"/>
                </a:solidFill>
                <a:latin typeface="Tahoma"/>
              </a:rPr>
              <a:t>	</a:t>
            </a: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228600" indent="-228600">
              <a:spcBef>
                <a:spcPts val="1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700" spc="-1" strike="noStrike">
                <a:solidFill>
                  <a:srgbClr val="00004d"/>
                </a:solidFill>
                <a:latin typeface="Tahoma"/>
              </a:rPr>
              <a:t>Szeged</a:t>
            </a:r>
            <a:r>
              <a:rPr b="0" lang="hu-HU" sz="700" spc="-1" strike="noStrike">
                <a:solidFill>
                  <a:srgbClr val="00004d"/>
                </a:solidFill>
                <a:latin typeface="Tahoma"/>
              </a:rPr>
              <a:t>	</a:t>
            </a:r>
            <a:r>
              <a:rPr b="0" lang="hu-HU" sz="700" spc="-1" strike="noStrike">
                <a:solidFill>
                  <a:srgbClr val="00004d"/>
                </a:solidFill>
                <a:latin typeface="Tahoma"/>
              </a:rPr>
              <a:t>	</a:t>
            </a:r>
            <a:r>
              <a:rPr b="0" lang="hu-HU" sz="700" spc="-1" strike="noStrike">
                <a:solidFill>
                  <a:srgbClr val="00004d"/>
                </a:solidFill>
                <a:latin typeface="Tahoma"/>
              </a:rPr>
              <a:t>500; 1595; 1845</a:t>
            </a:r>
            <a:r>
              <a:rPr b="0" lang="hu-HU" sz="700" spc="-1" strike="noStrike">
                <a:solidFill>
                  <a:srgbClr val="00004d"/>
                </a:solidFill>
                <a:latin typeface="Tahoma"/>
              </a:rPr>
              <a:t>	</a:t>
            </a: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228600" indent="-228600">
              <a:spcBef>
                <a:spcPts val="1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700" spc="-1" strike="noStrike">
                <a:solidFill>
                  <a:srgbClr val="00004d"/>
                </a:solidFill>
                <a:latin typeface="Tahoma"/>
              </a:rPr>
              <a:t>Székesfehérvár</a:t>
            </a:r>
            <a:r>
              <a:rPr b="0" lang="hu-HU" sz="700" spc="-1" strike="noStrike">
                <a:solidFill>
                  <a:srgbClr val="00004d"/>
                </a:solidFill>
                <a:latin typeface="Tahoma"/>
              </a:rPr>
              <a:t>	</a:t>
            </a:r>
            <a:r>
              <a:rPr b="0" lang="hu-HU" sz="700" spc="-1" strike="noStrike">
                <a:solidFill>
                  <a:srgbClr val="00004d"/>
                </a:solidFill>
                <a:latin typeface="Tahoma"/>
              </a:rPr>
              <a:t>50; 200; 400; 950; 1200; 1848</a:t>
            </a:r>
            <a:r>
              <a:rPr b="0" lang="hu-HU" sz="700" spc="-1" strike="noStrike">
                <a:solidFill>
                  <a:srgbClr val="00004d"/>
                </a:solidFill>
                <a:latin typeface="Tahoma"/>
              </a:rPr>
              <a:t>	</a:t>
            </a: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228600" indent="-228600">
              <a:spcBef>
                <a:spcPts val="1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4d"/>
                </a:solidFill>
                <a:latin typeface="Tahoma"/>
              </a:rPr>
              <a:t>Szekszárd</a:t>
            </a:r>
            <a:r>
              <a:rPr b="0" lang="pl-PL" sz="700" spc="-1" strike="noStrike">
                <a:solidFill>
                  <a:srgbClr val="00004d"/>
                </a:solidFill>
                <a:latin typeface="Tahoma"/>
              </a:rPr>
              <a:t>	</a:t>
            </a:r>
            <a:r>
              <a:rPr b="0" lang="pl-PL" sz="700" spc="-1" strike="noStrike">
                <a:solidFill>
                  <a:srgbClr val="00004d"/>
                </a:solidFill>
                <a:latin typeface="Tahoma"/>
              </a:rPr>
              <a:t>	</a:t>
            </a:r>
            <a:r>
              <a:rPr b="0" lang="pl-PL" sz="700" spc="-1" strike="noStrike">
                <a:solidFill>
                  <a:srgbClr val="00004d"/>
                </a:solidFill>
                <a:latin typeface="Tahoma"/>
              </a:rPr>
              <a:t>50; 130; 250; 700; 1400; 1650</a:t>
            </a:r>
            <a:r>
              <a:rPr b="0" lang="pl-PL" sz="700" spc="-1" strike="noStrike">
                <a:solidFill>
                  <a:srgbClr val="00004d"/>
                </a:solidFill>
                <a:latin typeface="Tahoma"/>
              </a:rPr>
              <a:t>	</a:t>
            </a: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228600" indent="-228600">
              <a:spcBef>
                <a:spcPts val="1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4d"/>
                </a:solidFill>
                <a:latin typeface="Tahoma"/>
              </a:rPr>
              <a:t>Szolnok</a:t>
            </a:r>
            <a:r>
              <a:rPr b="0" lang="pl-PL" sz="700" spc="-1" strike="noStrike">
                <a:solidFill>
                  <a:srgbClr val="00004d"/>
                </a:solidFill>
                <a:latin typeface="Tahoma"/>
              </a:rPr>
              <a:t>	</a:t>
            </a:r>
            <a:r>
              <a:rPr b="0" lang="pl-PL" sz="700" spc="-1" strike="noStrike">
                <a:solidFill>
                  <a:srgbClr val="00004d"/>
                </a:solidFill>
                <a:latin typeface="Tahoma"/>
              </a:rPr>
              <a:t>	</a:t>
            </a:r>
            <a:r>
              <a:rPr b="0" lang="pl-PL" sz="700" spc="-1" strike="noStrike">
                <a:solidFill>
                  <a:srgbClr val="00004d"/>
                </a:solidFill>
                <a:latin typeface="Tahoma"/>
              </a:rPr>
              <a:t>990; 1100; 1290; 1650</a:t>
            </a:r>
            <a:r>
              <a:rPr b="0" lang="pl-PL" sz="700" spc="-1" strike="noStrike">
                <a:solidFill>
                  <a:srgbClr val="00004d"/>
                </a:solidFill>
                <a:latin typeface="Tahoma"/>
              </a:rPr>
              <a:t>	</a:t>
            </a: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228600" indent="-228600">
              <a:spcBef>
                <a:spcPts val="1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4d"/>
                </a:solidFill>
                <a:latin typeface="Tahoma"/>
              </a:rPr>
              <a:t>Szombathely</a:t>
            </a:r>
            <a:r>
              <a:rPr b="0" lang="en-US" sz="700" spc="-1" strike="noStrike">
                <a:solidFill>
                  <a:srgbClr val="00004d"/>
                </a:solidFill>
                <a:latin typeface="Tahoma"/>
              </a:rPr>
              <a:t>	</a:t>
            </a:r>
            <a:r>
              <a:rPr b="0" lang="hu-HU" sz="700" spc="-1" strike="noStrike">
                <a:solidFill>
                  <a:srgbClr val="00004d"/>
                </a:solidFill>
                <a:latin typeface="Tahoma"/>
              </a:rPr>
              <a:t>	</a:t>
            </a:r>
            <a:r>
              <a:rPr b="0" lang="en-US" sz="700" spc="-1" strike="noStrike">
                <a:solidFill>
                  <a:srgbClr val="00004d"/>
                </a:solidFill>
                <a:latin typeface="Tahoma"/>
              </a:rPr>
              <a:t>200; 800; 900; 1000; 1200; 1500</a:t>
            </a:r>
            <a:r>
              <a:rPr b="0" lang="en-US" sz="700" spc="-1" strike="noStrike">
                <a:solidFill>
                  <a:srgbClr val="00004d"/>
                </a:solidFill>
                <a:latin typeface="Tahoma"/>
              </a:rPr>
              <a:t>	</a:t>
            </a: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228600" indent="-228600">
              <a:spcBef>
                <a:spcPts val="1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700" spc="-1" strike="noStrike">
                <a:solidFill>
                  <a:srgbClr val="00004d"/>
                </a:solidFill>
                <a:latin typeface="Tahoma"/>
              </a:rPr>
              <a:t>Tatabánya</a:t>
            </a:r>
            <a:r>
              <a:rPr b="0" lang="nn-NO" sz="700" spc="-1" strike="noStrike">
                <a:solidFill>
                  <a:srgbClr val="00004d"/>
                </a:solidFill>
                <a:latin typeface="Tahoma"/>
              </a:rPr>
              <a:t>	</a:t>
            </a:r>
            <a:r>
              <a:rPr b="0" lang="hu-HU" sz="700" spc="-1" strike="noStrike">
                <a:solidFill>
                  <a:srgbClr val="00004d"/>
                </a:solidFill>
                <a:latin typeface="Tahoma"/>
              </a:rPr>
              <a:t>	</a:t>
            </a:r>
            <a:r>
              <a:rPr b="0" lang="nn-NO" sz="700" spc="-1" strike="noStrike">
                <a:solidFill>
                  <a:srgbClr val="00004d"/>
                </a:solidFill>
                <a:latin typeface="Tahoma"/>
              </a:rPr>
              <a:t>320; 610; 870; 890; 1200; 1260; 1690</a:t>
            </a:r>
            <a:r>
              <a:rPr b="0" lang="nn-NO" sz="700" spc="-1" strike="noStrike">
                <a:solidFill>
                  <a:srgbClr val="00004d"/>
                </a:solidFill>
                <a:latin typeface="Tahoma"/>
              </a:rPr>
              <a:t>	</a:t>
            </a: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228600" indent="-228600">
              <a:spcBef>
                <a:spcPts val="1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700" spc="-1" strike="noStrike">
                <a:solidFill>
                  <a:srgbClr val="00004d"/>
                </a:solidFill>
                <a:latin typeface="Tahoma"/>
              </a:rPr>
              <a:t>Veszprém</a:t>
            </a:r>
            <a:r>
              <a:rPr b="0" lang="hu-HU" sz="700" spc="-1" strike="noStrike">
                <a:solidFill>
                  <a:srgbClr val="00004d"/>
                </a:solidFill>
                <a:latin typeface="Tahoma"/>
              </a:rPr>
              <a:t>	</a:t>
            </a:r>
            <a:r>
              <a:rPr b="0" lang="hu-HU" sz="700" spc="-1" strike="noStrike">
                <a:solidFill>
                  <a:srgbClr val="00004d"/>
                </a:solidFill>
                <a:latin typeface="Tahoma"/>
              </a:rPr>
              <a:t>	</a:t>
            </a:r>
            <a:r>
              <a:rPr b="0" lang="hu-HU" sz="700" spc="-1" strike="noStrike">
                <a:solidFill>
                  <a:srgbClr val="00004d"/>
                </a:solidFill>
                <a:latin typeface="Tahoma"/>
              </a:rPr>
              <a:t>300; 1100</a:t>
            </a:r>
            <a:r>
              <a:rPr b="0" lang="hu-HU" sz="700" spc="-1" strike="noStrike">
                <a:solidFill>
                  <a:srgbClr val="00004d"/>
                </a:solidFill>
                <a:latin typeface="Tahoma"/>
              </a:rPr>
              <a:t>	</a:t>
            </a: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228600" indent="-228600">
              <a:spcBef>
                <a:spcPts val="1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700" spc="-1" strike="noStrike">
                <a:solidFill>
                  <a:srgbClr val="00004d"/>
                </a:solidFill>
                <a:latin typeface="Tahoma"/>
              </a:rPr>
              <a:t>Zalaegerszeg</a:t>
            </a:r>
            <a:r>
              <a:rPr b="0" lang="hu-HU" sz="700" spc="-1" strike="noStrike">
                <a:solidFill>
                  <a:srgbClr val="00004d"/>
                </a:solidFill>
                <a:latin typeface="Tahoma"/>
              </a:rPr>
              <a:t>	</a:t>
            </a:r>
            <a:r>
              <a:rPr b="0" lang="hu-HU" sz="700" spc="-1" strike="noStrike">
                <a:solidFill>
                  <a:srgbClr val="00004d"/>
                </a:solidFill>
                <a:latin typeface="Tahoma"/>
              </a:rPr>
              <a:t>	</a:t>
            </a:r>
            <a:r>
              <a:rPr b="0" lang="hu-HU" sz="700" spc="-1" strike="noStrike">
                <a:solidFill>
                  <a:srgbClr val="00004d"/>
                </a:solidFill>
                <a:latin typeface="Tahoma"/>
              </a:rPr>
              <a:t>900; 1848</a:t>
            </a:r>
            <a:r>
              <a:rPr b="0" lang="hu-HU" sz="700" spc="-1" strike="noStrike">
                <a:solidFill>
                  <a:srgbClr val="00004d"/>
                </a:solidFill>
                <a:latin typeface="Tahoma"/>
              </a:rPr>
              <a:t>	</a:t>
            </a: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4d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Kép 78" descr=""/>
          <p:cNvPicPr/>
          <p:nvPr/>
        </p:nvPicPr>
        <p:blipFill>
          <a:blip r:embed="rId1">
            <a:lum contrast="-18000"/>
          </a:blip>
          <a:srcRect l="0" t="-11174" r="59396" b="63504"/>
          <a:stretch/>
        </p:blipFill>
        <p:spPr>
          <a:xfrm>
            <a:off x="7257960" y="0"/>
            <a:ext cx="2648160" cy="539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te_t_sarok"/>
          <p:cNvPicPr/>
          <p:nvPr/>
        </p:nvPicPr>
        <p:blipFill>
          <a:blip r:embed="rId2"/>
          <a:stretch/>
        </p:blipFill>
        <p:spPr>
          <a:xfrm>
            <a:off x="8215200" y="2987640"/>
            <a:ext cx="1690920" cy="169236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4"/>
          <p:cNvSpPr/>
          <p:nvPr/>
        </p:nvSpPr>
        <p:spPr>
          <a:xfrm>
            <a:off x="4182120" y="90360"/>
            <a:ext cx="154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Idegenforgalmi ad</a:t>
            </a:r>
            <a:r>
              <a:rPr b="0" lang="hu-HU" sz="1200" spc="-1" strike="noStrike">
                <a:solidFill>
                  <a:srgbClr val="ffffff"/>
                </a:solidFill>
                <a:latin typeface="Century Gothic"/>
              </a:rPr>
              <a:t>ó</a:t>
            </a: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203400" y="120960"/>
            <a:ext cx="3253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Idegenforgalmi ad</a:t>
            </a:r>
            <a:r>
              <a:rPr b="0" lang="hu-HU" sz="1200" spc="-1" strike="noStrike">
                <a:solidFill>
                  <a:srgbClr val="ffffff"/>
                </a:solidFill>
                <a:latin typeface="Century Gothic"/>
              </a:rPr>
              <a:t>ó</a:t>
            </a: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ffffff"/>
                </a:solidFill>
                <a:latin typeface="Century Gothic"/>
              </a:rPr>
              <a:t>Idegenforgalmi adó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72520" y="539280"/>
            <a:ext cx="891540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4d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Eger Megyei Jogú Városban az önkormányzati adóeljárások ügyszámai </a:t>
            </a:r>
            <a:r>
              <a:rPr b="0" lang="hu-HU" sz="20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(2016. 1-9 hó)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Kép 1" descr=""/>
          <p:cNvPicPr/>
          <p:nvPr/>
        </p:nvPicPr>
        <p:blipFill>
          <a:blip r:embed="rId3"/>
          <a:stretch/>
        </p:blipFill>
        <p:spPr>
          <a:xfrm>
            <a:off x="3368520" y="1265400"/>
            <a:ext cx="4846680" cy="291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Kép 78" descr=""/>
          <p:cNvPicPr/>
          <p:nvPr/>
        </p:nvPicPr>
        <p:blipFill>
          <a:blip r:embed="rId1">
            <a:lum contrast="-18000"/>
          </a:blip>
          <a:srcRect l="0" t="-11174" r="59396" b="63504"/>
          <a:stretch/>
        </p:blipFill>
        <p:spPr>
          <a:xfrm>
            <a:off x="7257960" y="0"/>
            <a:ext cx="2648160" cy="539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te_t_sarok"/>
          <p:cNvPicPr/>
          <p:nvPr/>
        </p:nvPicPr>
        <p:blipFill>
          <a:blip r:embed="rId2"/>
          <a:stretch/>
        </p:blipFill>
        <p:spPr>
          <a:xfrm>
            <a:off x="8215200" y="2987640"/>
            <a:ext cx="1690920" cy="169236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4"/>
          <p:cNvSpPr/>
          <p:nvPr/>
        </p:nvSpPr>
        <p:spPr>
          <a:xfrm>
            <a:off x="4182120" y="90360"/>
            <a:ext cx="154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Idegenforgalmi ad</a:t>
            </a:r>
            <a:r>
              <a:rPr b="0" lang="hu-HU" sz="1200" spc="-1" strike="noStrike">
                <a:solidFill>
                  <a:srgbClr val="ffffff"/>
                </a:solidFill>
                <a:latin typeface="Century Gothic"/>
              </a:rPr>
              <a:t>ó</a:t>
            </a: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203400" y="120960"/>
            <a:ext cx="3253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Idegenforgalmi ad</a:t>
            </a:r>
            <a:r>
              <a:rPr b="0" lang="hu-HU" sz="1200" spc="-1" strike="noStrike">
                <a:solidFill>
                  <a:srgbClr val="ffffff"/>
                </a:solidFill>
                <a:latin typeface="Century Gothic"/>
              </a:rPr>
              <a:t>ó</a:t>
            </a: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ffffff"/>
                </a:solidFill>
                <a:latin typeface="Century Gothic"/>
              </a:rPr>
              <a:t>Idegenforgalmi adó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72520" y="539280"/>
            <a:ext cx="891540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1679D768-40E9-4D34-AC06-2F9A31A0A96B" descr="1679D768-40E9-4D34-AC06-2F9A31A0A96B"/>
          <p:cNvPicPr/>
          <p:nvPr/>
        </p:nvPicPr>
        <p:blipFill>
          <a:blip r:embed="rId3"/>
          <a:stretch/>
        </p:blipFill>
        <p:spPr>
          <a:xfrm>
            <a:off x="628560" y="622440"/>
            <a:ext cx="820440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Kép 78" descr=""/>
          <p:cNvPicPr/>
          <p:nvPr/>
        </p:nvPicPr>
        <p:blipFill>
          <a:blip r:embed="rId1">
            <a:lum contrast="-18000"/>
          </a:blip>
          <a:srcRect l="0" t="-11174" r="59396" b="63504"/>
          <a:stretch/>
        </p:blipFill>
        <p:spPr>
          <a:xfrm>
            <a:off x="7257960" y="0"/>
            <a:ext cx="2648160" cy="539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te_t_sarok"/>
          <p:cNvPicPr/>
          <p:nvPr/>
        </p:nvPicPr>
        <p:blipFill>
          <a:blip r:embed="rId2"/>
          <a:stretch/>
        </p:blipFill>
        <p:spPr>
          <a:xfrm>
            <a:off x="8215200" y="2987640"/>
            <a:ext cx="1690920" cy="16923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4"/>
          <p:cNvSpPr/>
          <p:nvPr/>
        </p:nvSpPr>
        <p:spPr>
          <a:xfrm>
            <a:off x="4182120" y="90360"/>
            <a:ext cx="154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Idegenforgalmi ad</a:t>
            </a:r>
            <a:r>
              <a:rPr b="0" lang="hu-HU" sz="1200" spc="-1" strike="noStrike">
                <a:solidFill>
                  <a:srgbClr val="ffffff"/>
                </a:solidFill>
                <a:latin typeface="Century Gothic"/>
              </a:rPr>
              <a:t>ó</a:t>
            </a: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203400" y="120960"/>
            <a:ext cx="3253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Idegenforgalmi ad</a:t>
            </a:r>
            <a:r>
              <a:rPr b="0" lang="hu-HU" sz="1200" spc="-1" strike="noStrike">
                <a:solidFill>
                  <a:srgbClr val="ffffff"/>
                </a:solidFill>
                <a:latin typeface="Century Gothic"/>
              </a:rPr>
              <a:t>ó</a:t>
            </a: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ffffff"/>
                </a:solidFill>
                <a:latin typeface="Century Gothic"/>
              </a:rPr>
              <a:t>Idegenforgalmi adó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72520" y="539280"/>
            <a:ext cx="891540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Kép 1" descr=""/>
          <p:cNvPicPr/>
          <p:nvPr/>
        </p:nvPicPr>
        <p:blipFill>
          <a:blip r:embed="rId3"/>
          <a:stretch/>
        </p:blipFill>
        <p:spPr>
          <a:xfrm>
            <a:off x="1617840" y="444600"/>
            <a:ext cx="2552400" cy="3821040"/>
          </a:xfrm>
          <a:prstGeom prst="rect">
            <a:avLst/>
          </a:prstGeom>
          <a:ln w="0">
            <a:noFill/>
          </a:ln>
        </p:spPr>
      </p:pic>
      <p:pic>
        <p:nvPicPr>
          <p:cNvPr id="133" name="Kép 2" descr=""/>
          <p:cNvPicPr/>
          <p:nvPr/>
        </p:nvPicPr>
        <p:blipFill>
          <a:blip r:embed="rId4"/>
          <a:stretch/>
        </p:blipFill>
        <p:spPr>
          <a:xfrm>
            <a:off x="4459320" y="442800"/>
            <a:ext cx="2509920" cy="376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Kép 78" descr=""/>
          <p:cNvPicPr/>
          <p:nvPr/>
        </p:nvPicPr>
        <p:blipFill>
          <a:blip r:embed="rId1">
            <a:lum contrast="-18000"/>
          </a:blip>
          <a:srcRect l="0" t="-11174" r="59396" b="63504"/>
          <a:stretch/>
        </p:blipFill>
        <p:spPr>
          <a:xfrm>
            <a:off x="7257960" y="0"/>
            <a:ext cx="2648160" cy="539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te_t_sarok"/>
          <p:cNvPicPr/>
          <p:nvPr/>
        </p:nvPicPr>
        <p:blipFill>
          <a:blip r:embed="rId2"/>
          <a:stretch/>
        </p:blipFill>
        <p:spPr>
          <a:xfrm>
            <a:off x="8215200" y="2987640"/>
            <a:ext cx="1690920" cy="16923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4"/>
          <p:cNvSpPr/>
          <p:nvPr/>
        </p:nvSpPr>
        <p:spPr>
          <a:xfrm>
            <a:off x="4182120" y="90360"/>
            <a:ext cx="154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Idegenforgalmi ad</a:t>
            </a:r>
            <a:r>
              <a:rPr b="0" lang="hu-HU" sz="1200" spc="-1" strike="noStrike">
                <a:solidFill>
                  <a:srgbClr val="ffffff"/>
                </a:solidFill>
                <a:latin typeface="Century Gothic"/>
              </a:rPr>
              <a:t>ó</a:t>
            </a: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203400" y="120960"/>
            <a:ext cx="3253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Idegenforgalmi ad</a:t>
            </a:r>
            <a:r>
              <a:rPr b="0" lang="hu-HU" sz="1200" spc="-1" strike="noStrike">
                <a:solidFill>
                  <a:srgbClr val="ffffff"/>
                </a:solidFill>
                <a:latin typeface="Century Gothic"/>
              </a:rPr>
              <a:t>ó</a:t>
            </a: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ffffff"/>
                </a:solidFill>
                <a:latin typeface="Century Gothic"/>
              </a:rPr>
              <a:t>Idegenforgalmi adó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72520" y="539280"/>
            <a:ext cx="891540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Kép 1" descr=""/>
          <p:cNvPicPr/>
          <p:nvPr/>
        </p:nvPicPr>
        <p:blipFill>
          <a:blip r:embed="rId3"/>
          <a:stretch/>
        </p:blipFill>
        <p:spPr>
          <a:xfrm>
            <a:off x="2936880" y="336600"/>
            <a:ext cx="3359160" cy="4044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4T13:08:05Z</dcterms:created>
  <dc:creator>nagyt</dc:creator>
  <dc:description/>
  <dc:language>en-US</dc:language>
  <cp:lastModifiedBy>Korsós László</cp:lastModifiedBy>
  <cp:lastPrinted>2016-10-24T11:51:48Z</cp:lastPrinted>
  <dcterms:modified xsi:type="dcterms:W3CDTF">2016-11-04T08:44:17Z</dcterms:modified>
  <cp:revision>116</cp:revision>
  <dc:subject/>
  <dc:title>1. dia</dc:title>
</cp:coreProperties>
</file>